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5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http://www.eblcu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北京语言大学logot"/>
          <p:cNvPicPr/>
          <p:nvPr/>
        </p:nvPicPr>
        <p:blipFill>
          <a:blip r:embed="rId4"/>
          <a:stretch/>
        </p:blipFill>
        <p:spPr>
          <a:xfrm>
            <a:off x="6877080" y="217440"/>
            <a:ext cx="1871640" cy="649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647480" y="603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行楷"/>
              </a:rPr>
              <a:t>网络教育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126828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中心平台选课操作指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656800" y="385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行楷"/>
              </a:rPr>
              <a:t>网络教育学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logo1"/>
          <p:cNvPicPr/>
          <p:nvPr/>
        </p:nvPicPr>
        <p:blipFill>
          <a:blip r:embed="rId1"/>
          <a:stretch/>
        </p:blipFill>
        <p:spPr>
          <a:xfrm>
            <a:off x="468360" y="260280"/>
            <a:ext cx="1974960" cy="53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开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确定学生不欠费的情况下，学习中心进入管理平台为学生选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_1(0UUJP127FYUD3R7JRAP"/>
          <p:cNvPicPr/>
          <p:nvPr/>
        </p:nvPicPr>
        <p:blipFill>
          <a:blip r:embed="rId1"/>
          <a:stretch/>
        </p:blipFill>
        <p:spPr>
          <a:xfrm>
            <a:off x="714240" y="192888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开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在集体选开课界面，依次选择批次、层次、专业等，点击查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5`KUB1UOM_P2L{2F2X`4DS"/>
          <p:cNvPicPr/>
          <p:nvPr/>
        </p:nvPicPr>
        <p:blipFill>
          <a:blip r:embed="rId1"/>
          <a:stretch/>
        </p:blipFill>
        <p:spPr>
          <a:xfrm>
            <a:off x="785880" y="1857240"/>
            <a:ext cx="7467480" cy="449604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2143080" y="3681360"/>
            <a:ext cx="237636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开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点击待选人数    （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注意：“已限制”是表示欠费的学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`LJH8$6]V0}XMOR~E387VUU"/>
          <p:cNvPicPr/>
          <p:nvPr/>
        </p:nvPicPr>
        <p:blipFill>
          <a:blip r:embed="rId1"/>
          <a:stretch/>
        </p:blipFill>
        <p:spPr>
          <a:xfrm>
            <a:off x="785880" y="1857240"/>
            <a:ext cx="7572240" cy="454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开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出现待选课学生列表（如下图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选择已交费的学生，点击其后的复选框，然后点击下方的“指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学员 开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99[0KEXJD6I[E)E)YT`@HAX"/>
          <p:cNvPicPr/>
          <p:nvPr/>
        </p:nvPicPr>
        <p:blipFill>
          <a:blip r:embed="rId1"/>
          <a:stretch/>
        </p:blipFill>
        <p:spPr>
          <a:xfrm>
            <a:off x="1214280" y="2500200"/>
            <a:ext cx="6527880" cy="37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开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点击“确定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}H](TA(CEEJOS{YM5APXU77"/>
          <p:cNvPicPr/>
          <p:nvPr/>
        </p:nvPicPr>
        <p:blipFill>
          <a:blip r:embed="rId1"/>
          <a:stretch/>
        </p:blipFill>
        <p:spPr>
          <a:xfrm>
            <a:off x="714240" y="178596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开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其他课程依照上述步骤依次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BIKA[RCHTCLV)OC(~M`4%PY"/>
          <p:cNvPicPr/>
          <p:nvPr/>
        </p:nvPicPr>
        <p:blipFill>
          <a:blip r:embed="rId1"/>
          <a:stretch/>
        </p:blipFill>
        <p:spPr>
          <a:xfrm>
            <a:off x="714240" y="192888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881440" y="2421000"/>
            <a:ext cx="331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blcu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692360" y="1773360"/>
            <a:ext cx="60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谢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637720" y="395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行楷"/>
              </a:rPr>
              <a:t>网络教育学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logo1"/>
          <p:cNvPicPr/>
          <p:nvPr/>
        </p:nvPicPr>
        <p:blipFill>
          <a:blip r:embed="rId1"/>
          <a:stretch/>
        </p:blipFill>
        <p:spPr>
          <a:xfrm>
            <a:off x="468360" y="260280"/>
            <a:ext cx="1974960" cy="53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微软用户</cp:lastModifiedBy>
  <dcterms:modified xsi:type="dcterms:W3CDTF">2012-02-27T08:19:42Z</dcterms:modified>
  <cp:revision>167</cp:revision>
  <dc:subject/>
  <dc:title>PowerPoint Template</dc:title>
</cp:coreProperties>
</file>