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02F-765A-4D03-86E4-C41B3D30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752-224C-4F2A-886D-EDB8A214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7E3-1482-4D57-B86B-2306C6F1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497-BC92-4169-9860-CBCC9B64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B1D-0527-472F-8E24-53217E98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7C0-8B1D-4FA8-B96A-CA8A0C17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D82-6469-4289-8C1C-D2E11A40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3BB-3A62-4236-BE73-C44475F0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9F0-371E-49C7-983D-3B51ADCC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C7D-8744-4992-AF75-150F3479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1A7-A8B5-476D-9D02-E320882E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A50-A86B-444A-A9F6-C5BC671D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4569-4157-4CFD-A497-731CB3F0E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362320" y="2666880"/>
            <a:ext cx="3962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喜欢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朗读音乐.mp3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493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内容占位符 3" descr="u=3360839876,2983456713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内容占位符 3" descr="u=3539992797,860388143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内容占位符 3" descr="u=262448391,2274943857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内容占位符 3" descr="u=4224458500,590257364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内容占位符 3" descr="u=2122679163,397420454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内容占位符 3" descr="u=3091989285,474975505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内容占位符 3" descr="u=2838704617,2230682969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内容占位符 3" descr="QQ图片201510201117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内容占位符 3" descr="QQ图片201510201117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内容占位符 3" descr="QQ图片201510201117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87c6ecf5865d72ef8dc6192"/>
          <p:cNvPicPr/>
          <p:nvPr/>
        </p:nvPicPr>
        <p:blipFill>
          <a:blip r:embed="rId1"/>
          <a:stretch/>
        </p:blipFill>
        <p:spPr>
          <a:xfrm>
            <a:off x="304920" y="0"/>
            <a:ext cx="84924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57200" y="1523880"/>
            <a:ext cx="8229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晓风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，江苏铜山人，生于浙江金华。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后赴台，毕业于台湾东吴大学，并曾执教于该校及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，现任台湾阳明医学院教授。她喜爱创作，小说、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戏剧著作有三、四十种，并曾一版再版，并译成各种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。六十年代中期即以散文成名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作品被列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湾十大散文家选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余光中也曾称其文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柔婉中带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之列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散文家中的名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又有人称其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太阳之热，霜雪之贞，篇篇有寒梅之香，字字若璎珞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皆评价甚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228600" y="1371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556280" y="4572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张晓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内容占位符 3" descr="QQ图片201510201117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内容占位符 3" descr="QQ图片201510201116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内容占位符 3" descr="QQ图片201510201116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内容占位符 3" descr="QQ图片201510201116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内容占位符 3" descr="QQ图片201510201116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内容占位符 3" descr="QQ图片201510201116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内容占位符 3" descr="QQ图片201510201116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内容占位符 3" descr="QQ图片201510201116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内容占位符 3" descr="QQ图片201510201115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内容占位符 3" descr="QQ图片201510201115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内容占位符 3" descr="u=1966053876,2745651803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我最响亮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内容占位符 3" descr="QQ图片20151020111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内容占位符 3" descr="QQ图片201510201115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内容占位符 3" descr="QQ图片201510201115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内容占位符 3" descr="QQ图片201510201115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内容占位符 3" descr="QQ图片201510201113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内容占位符 3" descr="QQ图片201510201113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内容占位符 3" descr="QQ图片201510201113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内容占位符 3" descr="u=4248609042,31622090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内容占位符 3" descr="u=403482531,1893588088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2590920" y="274320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3" descr="u=648925378,823246582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内容占位符 3" descr="u=1114873059,3633976927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3" descr="u=3094861968,501005507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u=499997343,4275352026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3" descr="u=382383895,3151524691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内容占位符 3" descr="u=2751683754,3837518605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20T06:38:5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