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16F-2684-4CA7-900C-BCE69E4F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493-F198-4D22-A574-AE749A43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603-A785-441F-B98B-B5FF5D22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A73-A2E3-414A-B851-95B08584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E8E-5B57-4CE7-BC08-6D8E1851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4E14-0EE8-4B8F-87A8-779E483F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6B7-7482-4E6B-925F-14BAA665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2D82-FA3A-4A9B-B747-3DF64738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229-B26F-42F9-B209-B5FFE22A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02E-42C9-4B4A-83FD-324B7C2F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A878-FFA0-472E-9A88-5147AE85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6E7-CABA-4483-992F-3B99D55D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83C5-B56D-4027-941F-1875F5CD89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49360"/>
            <a:ext cx="4586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0" y="1628640"/>
            <a:ext cx="55436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鹬蚌相争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336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北师大版六年级下册第五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609300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庆外国语学校小学部：张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ee2"/>
          <p:cNvPicPr/>
          <p:nvPr/>
        </p:nvPicPr>
        <p:blipFill>
          <a:blip r:embed="rId2"/>
          <a:stretch/>
        </p:blipFill>
        <p:spPr>
          <a:xfrm>
            <a:off x="36360" y="1774800"/>
            <a:ext cx="9109080" cy="5084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780000" y="1773360"/>
            <a:ext cx="302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981000"/>
            <a:ext cx="75596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鹬和蚌为什么会一起被渔夫捉去了？生活中你遇到过这样的事情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ee2"/>
          <p:cNvPicPr/>
          <p:nvPr/>
        </p:nvPicPr>
        <p:blipFill>
          <a:blip r:embed="rId2"/>
          <a:stretch/>
        </p:blipFill>
        <p:spPr>
          <a:xfrm>
            <a:off x="36360" y="1774800"/>
            <a:ext cx="9109080" cy="5084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79280" y="404640"/>
            <a:ext cx="88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赵且伐燕，苏代为燕谓惠王曰：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者臣来，过易水。蚌方出曝，而鹬啄其肉，蚌合而箝其喙。鹬曰：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日不雨，明日不雨，即有死蚌！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蚌亦谓鹬曰：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日不出，明日不出，即有死鹬！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者不肯相舍，渔者得而并禽之。今赵且伐燕，燕赵久相支，以弊大众，臣恐强秦之为渔夫也。故愿王之熟计之也！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惠王曰：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。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乃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战国策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燕策二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1260360" y="1066680"/>
            <a:ext cx="684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68360" y="1700280"/>
            <a:ext cx="468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324000" y="5373720"/>
            <a:ext cx="864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324000" y="4724280"/>
            <a:ext cx="842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324000" y="59500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0090420_8e68c44e4c1c2d3ac270t8X1a8fa4x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468360" y="314172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162864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抄写并背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续编故事：许多年后，鹬和蚌的子孙再一次在河边相遇了。这次，他们之间又会发生什么新的故事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再去搜集一些其他的寓言故事，读一读，体会它蕴含的道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2920" y="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48360" y="0"/>
            <a:ext cx="3600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d0"/>
                </a:solidFill>
                <a:latin typeface="Arial"/>
              </a:rPr>
              <a:t>鹬</a:t>
            </a:r>
            <a:r>
              <a:rPr b="0" lang="zh-CN" sz="4000" spc="-1" strike="noStrike">
                <a:solidFill>
                  <a:srgbClr val="cc3399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是一种水鸟，羽毛茶褐色，嘴、脚都很长，上体通常杂黑褐色，尾和体侧具有橫斑，常在水边或田野中捕食小鱼、贝类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88920" y="260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0"/>
            <a:ext cx="4572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99"/>
                </a:solidFill>
                <a:latin typeface="Arial"/>
              </a:rPr>
              <a:t>蚌</a:t>
            </a:r>
            <a:r>
              <a:rPr b="0" lang="zh-CN" sz="4000" spc="-1" strike="noStrike">
                <a:solidFill>
                  <a:srgbClr val="cc3399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生活在江、河、湖、沼里的贝类，有两扇坚硬的石灰质的贝壳保护着身体，遇到敌害向它进攻的时候，柔软的身体便立刻缩到两个贝壳的中间，同时把两个贝壳紧紧的关闭起来，形成一道攻不破的“铜墙铁壁”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700360" y="2707920"/>
            <a:ext cx="51832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3213000"/>
            <a:ext cx="53290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404640"/>
            <a:ext cx="755964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鹬蚌相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《战国策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蚌方出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曝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(pù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而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鹬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(qián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啄其肉，蚌合而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箝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(qián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其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喙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(huì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鹬曰：“今日不雨，明日不雨，即有死蚌。”蚌亦谓鹬曰：“今日不出，明日不出，即有死鹬。”两者不肯相舍，渔者得而并禽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557360"/>
            <a:ext cx="4500360" cy="5300280"/>
            <a:chOff x="0" y="1557360"/>
            <a:chExt cx="4500360" cy="530028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0" y="1557360"/>
              <a:ext cx="4500360" cy="53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 txBox="1"/>
            <p:nvPr/>
          </p:nvSpPr>
          <p:spPr>
            <a:xfrm>
              <a:off x="933840" y="2356560"/>
              <a:ext cx="2379600" cy="10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_GB2312"/>
                </a:rPr>
                <a:t>阳光明媚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500720" y="1557360"/>
            <a:ext cx="4642920" cy="5300280"/>
            <a:chOff x="4500720" y="1557360"/>
            <a:chExt cx="4642920" cy="530028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500720" y="1557360"/>
              <a:ext cx="4642920" cy="53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5539680" y="1951920"/>
              <a:ext cx="2241360" cy="187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楷体_GB2312"/>
                </a:rPr>
                <a:t>心旷神怡</a:t>
              </a:r>
              <a:endPara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403280" y="2602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蚌方出曝，而鹬啄其肉，蚌合而箝其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189000"/>
            <a:ext cx="9143280" cy="3428640"/>
            <a:chOff x="0" y="189000"/>
            <a:chExt cx="9143280" cy="342864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9143280" cy="34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 txBox="1"/>
            <p:nvPr/>
          </p:nvSpPr>
          <p:spPr>
            <a:xfrm>
              <a:off x="1283400" y="800640"/>
              <a:ext cx="5135760" cy="1043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4877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ff00ff"/>
                  </a:solidFill>
                  <a:latin typeface="楷体_GB2312"/>
                </a:rPr>
                <a:t>饥肠辘辘</a:t>
              </a:r>
              <a:endPara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0" y="3357720"/>
            <a:ext cx="9143280" cy="3499920"/>
            <a:chOff x="0" y="3357720"/>
            <a:chExt cx="9143280" cy="3499920"/>
          </a:xfrm>
        </p:grpSpPr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0" y="3357720"/>
              <a:ext cx="9143280" cy="34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2210040" y="3878280"/>
              <a:ext cx="4933440" cy="78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latin typeface="楷体_GB2312"/>
                </a:rPr>
                <a:t>口水直流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楷体_GB2312"/>
                <a:ea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807578504e10c10c43a75bae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076720" y="170028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此时的鹬、蚌各自会想写什么，说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3995640" cy="6191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030560" y="2060640"/>
            <a:ext cx="5113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楷体"/>
                <a:ea typeface="楷体"/>
              </a:rPr>
              <a:t>鹬曰：“今日不雨，明日不雨，即有死蚌！”蚌亦谓鹬曰：“今日不出，明日不出，即有死鹬</a:t>
            </a:r>
            <a:r>
              <a:rPr b="1" lang="zh-CN" sz="3600" spc="-1" strike="noStrike">
                <a:solidFill>
                  <a:srgbClr val="ff0066"/>
                </a:solidFill>
                <a:latin typeface="楷体"/>
                <a:ea typeface="楷体"/>
              </a:rPr>
              <a:t>!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tp022_01"/>
          <p:cNvPicPr/>
          <p:nvPr/>
        </p:nvPicPr>
        <p:blipFill>
          <a:blip r:embed="rId1"/>
          <a:stretch/>
        </p:blipFill>
        <p:spPr>
          <a:xfrm>
            <a:off x="71280" y="-46080"/>
            <a:ext cx="9072720" cy="69040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3995640" y="765000"/>
            <a:ext cx="4972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149800" y="117360"/>
            <a:ext cx="381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620640"/>
            <a:ext cx="460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两者不肯相舍，渔者得而并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"/>
              </a:rPr>
              <a:t>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8920" y="364500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禽：通“擒”，捉走         的意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4:08:09Z</dcterms:created>
  <dc:creator>island</dc:creator>
  <dc:description/>
  <dc:language>en-US</dc:language>
  <cp:lastModifiedBy>未知用户</cp:lastModifiedBy>
  <dcterms:modified xsi:type="dcterms:W3CDTF">2016-04-20T06:39:30Z</dcterms:modified>
  <cp:revision>36</cp:revision>
  <dc:subject/>
  <dc:title>幻灯片 1</dc:title>
</cp:coreProperties>
</file>