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5.png" ContentType="image/png"/>
  <Override PartName="/ppt/media/image4.png" ContentType="image/png"/>
  <Override PartName="/ppt/media/image29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12.png" ContentType="image/png"/>
  <Override PartName="/ppt/media/image52.wmf" ContentType="image/x-wmf"/>
  <Override PartName="/ppt/media/image7.wmf" ContentType="image/x-wmf"/>
  <Override PartName="/ppt/media/image37.wmf" ContentType="image/x-wmf"/>
  <Override PartName="/ppt/media/image41.wmf" ContentType="image/x-wmf"/>
  <Override PartName="/ppt/media/image49.wmf" ContentType="image/x-wmf"/>
  <Override PartName="/ppt/media/image51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5.wmf" ContentType="image/x-wmf"/>
  <Override PartName="/ppt/media/image2.png" ContentType="image/png"/>
  <Override PartName="/ppt/media/image57.wmf" ContentType="image/x-wmf"/>
  <Override PartName="/ppt/media/image46.wmf" ContentType="image/x-wmf"/>
  <Override PartName="/ppt/media/image58.wmf" ContentType="image/x-wmf"/>
  <Override PartName="/ppt/media/image40.wmf" ContentType="image/x-wmf"/>
  <Override PartName="/ppt/media/image3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0.wmf" ContentType="image/x-wmf"/>
  <Override PartName="/ppt/media/image47.wmf" ContentType="image/x-wmf"/>
  <Override PartName="/ppt/media/image13.png" ContentType="image/png"/>
  <Override PartName="/ppt/media/image5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77F-C2FF-4CF5-881E-7CBCB8C2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023-35A5-4420-B2F0-5FDA4B78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120-7F88-4BD8-B00E-FA4291E4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EC0-806E-4978-9366-7E48FBEE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E876-CAE2-4DE2-886F-951E585D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C050-54B0-4147-AA82-89F0F4B9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28EB-FD0D-4469-8BD5-8D5446FE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2E80-37B3-41AA-BA51-5BD42929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6C7C-25BE-4D6B-BEA7-09731BD7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E616-9736-4D9D-9835-519FECA6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66C0-5EBE-44A0-8F9E-693A6EE0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7DF-E009-4CFB-AEED-1F35BD5B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64FA-A887-40CF-AF2E-99B30688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2CD4-9CBA-4530-9886-48E60BD2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F077-3B0F-4675-9A5D-4FC84B34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CC41-DC86-4F7A-B561-1A353CF4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BF12-F384-49E8-93F0-89EED957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20F-03F7-4DFB-8E18-111F3FFB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F6D-5DA7-41A2-8443-2C0263A9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7D1-0BF9-4B53-AD6F-807696A1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EC6-F105-4E80-8AEA-D915ED06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191-4BF9-4178-B464-AE63EFCA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9E4-6062-4F49-9ADB-8C1E0994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58F-505C-4407-93AF-FD52BA06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5319-1DDF-4F6E-9F90-226552478E1B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1626-4A42-4501-AD9F-3336B1DA074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9.wmf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33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34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35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36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37.wmf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7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5"/>
          <p:cNvGrpSpPr/>
          <p:nvPr/>
        </p:nvGrpSpPr>
        <p:grpSpPr>
          <a:xfrm>
            <a:off x="1150200" y="3104280"/>
            <a:ext cx="1144440" cy="962280"/>
            <a:chOff x="1150200" y="3104280"/>
            <a:chExt cx="1144440" cy="962280"/>
          </a:xfrm>
        </p:grpSpPr>
        <p:sp>
          <p:nvSpPr>
            <p:cNvPr id="82" name="AutoShape 6">
              <a:hlinkClick r:id="rId2" action="ppaction://hlinksldjump"/>
            </p:cNvPr>
            <p:cNvSpPr/>
            <p:nvPr/>
          </p:nvSpPr>
          <p:spPr>
            <a:xfrm rot="720000">
              <a:off x="1219320" y="3200400"/>
              <a:ext cx="10062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" name="AutoShape 7"/>
            <p:cNvSpPr/>
            <p:nvPr/>
          </p:nvSpPr>
          <p:spPr>
            <a:xfrm rot="720000">
              <a:off x="1245240" y="3224880"/>
              <a:ext cx="94968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2958480" y="3335400"/>
            <a:ext cx="1032840" cy="804600"/>
            <a:chOff x="2958480" y="3335400"/>
            <a:chExt cx="1032840" cy="804600"/>
          </a:xfrm>
        </p:grpSpPr>
        <p:sp>
          <p:nvSpPr>
            <p:cNvPr id="85" name="AutoShape 9"/>
            <p:cNvSpPr/>
            <p:nvPr/>
          </p:nvSpPr>
          <p:spPr>
            <a:xfrm rot="120000">
              <a:off x="2971440" y="3352680"/>
              <a:ext cx="10065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6" name="AutoShape 10"/>
            <p:cNvSpPr/>
            <p:nvPr/>
          </p:nvSpPr>
          <p:spPr>
            <a:xfrm rot="120000">
              <a:off x="2996280" y="3377520"/>
              <a:ext cx="9500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4670280" y="3278880"/>
            <a:ext cx="1114560" cy="916560"/>
            <a:chOff x="4670280" y="3278880"/>
            <a:chExt cx="1114560" cy="916560"/>
          </a:xfrm>
        </p:grpSpPr>
        <p:sp>
          <p:nvSpPr>
            <p:cNvPr id="88" name="AutoShape 12"/>
            <p:cNvSpPr/>
            <p:nvPr/>
          </p:nvSpPr>
          <p:spPr>
            <a:xfrm rot="21060000">
              <a:off x="4723920" y="335268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" name="AutoShape 13"/>
            <p:cNvSpPr/>
            <p:nvPr/>
          </p:nvSpPr>
          <p:spPr>
            <a:xfrm rot="21060000">
              <a:off x="4747320" y="337824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6366600" y="2958120"/>
            <a:ext cx="1227240" cy="1101960"/>
            <a:chOff x="6366600" y="2958120"/>
            <a:chExt cx="1227240" cy="1101960"/>
          </a:xfrm>
        </p:grpSpPr>
        <p:sp>
          <p:nvSpPr>
            <p:cNvPr id="91" name="AutoShape 15"/>
            <p:cNvSpPr/>
            <p:nvPr/>
          </p:nvSpPr>
          <p:spPr>
            <a:xfrm rot="20220000">
              <a:off x="6476760" y="3123720"/>
              <a:ext cx="10062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2" name="AutoShape 16"/>
            <p:cNvSpPr/>
            <p:nvPr/>
          </p:nvSpPr>
          <p:spPr>
            <a:xfrm rot="20220000">
              <a:off x="6499080" y="3151080"/>
              <a:ext cx="94968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93" name="图片 105" descr="1.png"/>
          <p:cNvPicPr/>
          <p:nvPr/>
        </p:nvPicPr>
        <p:blipFill>
          <a:blip r:embed="rId3"/>
          <a:stretch/>
        </p:blipFill>
        <p:spPr>
          <a:xfrm>
            <a:off x="1143000" y="914400"/>
            <a:ext cx="7010280" cy="1525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38080" y="525780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"/>
              </a:rPr>
              <a:t>安庆市外国语学校：吕勇菊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9"/>
          <p:cNvSpPr/>
          <p:nvPr/>
        </p:nvSpPr>
        <p:spPr>
          <a:xfrm>
            <a:off x="539640" y="1496880"/>
            <a:ext cx="82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只蚂蚁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秒爬了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dm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平均每秒爬多少分米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3817800" y="1405080"/>
          <a:ext cx="51300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7800" y="1405080"/>
                    <a:ext cx="5130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2201760" y="2781360"/>
          <a:ext cx="111600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1760" y="2781360"/>
                    <a:ext cx="11160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9"/>
          <p:cNvGraphicFramePr/>
          <p:nvPr/>
        </p:nvGraphicFramePr>
        <p:xfrm>
          <a:off x="3435480" y="2781360"/>
          <a:ext cx="1482480" cy="93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35480" y="2781360"/>
                    <a:ext cx="14824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0"/>
          <p:cNvGraphicFramePr/>
          <p:nvPr/>
        </p:nvGraphicFramePr>
        <p:xfrm>
          <a:off x="4917960" y="2757600"/>
          <a:ext cx="1698840" cy="99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2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17960" y="2757600"/>
                    <a:ext cx="16988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"/>
          <p:cNvSpPr/>
          <p:nvPr/>
        </p:nvSpPr>
        <p:spPr>
          <a:xfrm>
            <a:off x="539640" y="1496880"/>
            <a:ext cx="8280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瓶果酱有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kg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淘气家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天吃完，平均每天吃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少千克？相当于多少克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55" name="Object 5"/>
          <p:cNvGraphicFramePr/>
          <p:nvPr/>
        </p:nvGraphicFramePr>
        <p:xfrm>
          <a:off x="2743200" y="1371600"/>
          <a:ext cx="33192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371600"/>
                    <a:ext cx="3319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8"/>
          <p:cNvGraphicFramePr/>
          <p:nvPr/>
        </p:nvGraphicFramePr>
        <p:xfrm>
          <a:off x="1295280" y="3200400"/>
          <a:ext cx="220680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200400"/>
                    <a:ext cx="22068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8"/>
          <p:cNvGraphicFramePr/>
          <p:nvPr/>
        </p:nvGraphicFramePr>
        <p:xfrm>
          <a:off x="4203720" y="3213000"/>
          <a:ext cx="2671920" cy="90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03720" y="3213000"/>
                    <a:ext cx="26719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990720" y="51055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答：平均每天吃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/10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千克，相当于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2362320"/>
            <a:ext cx="77724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今天你学到了什么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2630520" y="2330280"/>
            <a:ext cx="1728720" cy="1476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6" name="图片 6" descr="1.png"/>
          <p:cNvPicPr/>
          <p:nvPr/>
        </p:nvPicPr>
        <p:blipFill>
          <a:blip r:embed="rId2"/>
          <a:stretch/>
        </p:blipFill>
        <p:spPr>
          <a:xfrm>
            <a:off x="468360" y="126828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934920" y="1189080"/>
            <a:ext cx="77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把一张纸的      平均分成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份，每份是这张纸的几分之几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2916360" y="1092240"/>
            <a:ext cx="428400" cy="7239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1" descr="5.png"/>
          <p:cNvPicPr/>
          <p:nvPr/>
        </p:nvPicPr>
        <p:blipFill>
          <a:blip r:embed="rId4"/>
          <a:stretch/>
        </p:blipFill>
        <p:spPr>
          <a:xfrm>
            <a:off x="2660760" y="2363760"/>
            <a:ext cx="847440" cy="147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627280" y="2330280"/>
          <a:ext cx="3024360" cy="147672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1640"/>
                <a:gridCol w="433440"/>
                <a:gridCol w="444600"/>
                <a:gridCol w="419040"/>
                <a:gridCol w="432000"/>
              </a:tblGrid>
              <a:tr h="14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Object 9"/>
          <p:cNvGraphicFramePr/>
          <p:nvPr/>
        </p:nvGraphicFramePr>
        <p:xfrm>
          <a:off x="1905120" y="4191120"/>
          <a:ext cx="863640" cy="95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191120"/>
                    <a:ext cx="86364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10"/>
          <p:cNvGraphicFramePr/>
          <p:nvPr/>
        </p:nvGraphicFramePr>
        <p:xfrm>
          <a:off x="2819520" y="4267080"/>
          <a:ext cx="120168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4267080"/>
                    <a:ext cx="120168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1"/>
          <p:cNvGraphicFramePr/>
          <p:nvPr/>
        </p:nvGraphicFramePr>
        <p:xfrm>
          <a:off x="4038480" y="4267080"/>
          <a:ext cx="709560" cy="95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4267080"/>
                    <a:ext cx="70956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219320" y="593568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5516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分数除法的意义同整数除法的意义完全相同，都是已知两个乘数的积和其中一个乘数，求另一个乘数的运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8"/>
          <p:cNvSpPr/>
          <p:nvPr/>
        </p:nvSpPr>
        <p:spPr>
          <a:xfrm>
            <a:off x="2630520" y="2568600"/>
            <a:ext cx="1728720" cy="14763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0" name="图片 6" descr="1.png"/>
          <p:cNvPicPr/>
          <p:nvPr/>
        </p:nvPicPr>
        <p:blipFill>
          <a:blip r:embed="rId2"/>
          <a:stretch/>
        </p:blipFill>
        <p:spPr>
          <a:xfrm>
            <a:off x="468360" y="126828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934920" y="1189080"/>
            <a:ext cx="7724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把一张纸的      平均分成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份，每份是这张纸的几分之几？分一分，涂一涂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2916360" y="1092240"/>
            <a:ext cx="428400" cy="7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2627280" y="2568600"/>
          <a:ext cx="3024360" cy="147636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1640"/>
                <a:gridCol w="433440"/>
                <a:gridCol w="432000"/>
                <a:gridCol w="431640"/>
                <a:gridCol w="432000"/>
              </a:tblGrid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Object 9"/>
          <p:cNvGraphicFramePr/>
          <p:nvPr/>
        </p:nvGraphicFramePr>
        <p:xfrm>
          <a:off x="2714760" y="4560840"/>
          <a:ext cx="833400" cy="95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14760" y="4560840"/>
                    <a:ext cx="83340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0"/>
          <p:cNvGraphicFramePr/>
          <p:nvPr/>
        </p:nvGraphicFramePr>
        <p:xfrm>
          <a:off x="3610080" y="4560840"/>
          <a:ext cx="1201680" cy="95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10080" y="4560840"/>
                    <a:ext cx="120168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1"/>
          <p:cNvGraphicFramePr/>
          <p:nvPr/>
        </p:nvGraphicFramePr>
        <p:xfrm>
          <a:off x="4809960" y="4560840"/>
          <a:ext cx="865440" cy="955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09960" y="4560840"/>
                    <a:ext cx="86544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直接连接符 14"/>
          <p:cNvSpPr/>
          <p:nvPr/>
        </p:nvSpPr>
        <p:spPr>
          <a:xfrm>
            <a:off x="2627280" y="3068640"/>
            <a:ext cx="3024360" cy="0"/>
          </a:xfrm>
          <a:prstGeom prst="line">
            <a:avLst/>
          </a:prstGeom>
          <a:ln w="1908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1" name="图片 16" descr="6.png"/>
          <p:cNvPicPr/>
          <p:nvPr/>
        </p:nvPicPr>
        <p:blipFill>
          <a:blip r:embed="rId10"/>
          <a:stretch/>
        </p:blipFill>
        <p:spPr>
          <a:xfrm>
            <a:off x="2627280" y="2590920"/>
            <a:ext cx="1728720" cy="493560"/>
          </a:xfrm>
          <a:prstGeom prst="rect">
            <a:avLst/>
          </a:prstGeom>
          <a:ln w="0">
            <a:noFill/>
          </a:ln>
        </p:spPr>
      </p:pic>
      <p:sp>
        <p:nvSpPr>
          <p:cNvPr id="122" name="直接连接符 15"/>
          <p:cNvSpPr/>
          <p:nvPr/>
        </p:nvSpPr>
        <p:spPr>
          <a:xfrm>
            <a:off x="2627280" y="3557520"/>
            <a:ext cx="3024360" cy="0"/>
          </a:xfrm>
          <a:prstGeom prst="line">
            <a:avLst/>
          </a:prstGeom>
          <a:ln w="1908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3" name="图片 17" descr="7.png"/>
          <p:cNvPicPr/>
          <p:nvPr/>
        </p:nvPicPr>
        <p:blipFill>
          <a:blip r:embed="rId11"/>
          <a:stretch/>
        </p:blipFill>
        <p:spPr>
          <a:xfrm>
            <a:off x="5694480" y="2065320"/>
            <a:ext cx="344952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6" descr="1.png"/>
          <p:cNvPicPr/>
          <p:nvPr/>
        </p:nvPicPr>
        <p:blipFill>
          <a:blip r:embed="rId2"/>
          <a:stretch/>
        </p:blipFill>
        <p:spPr>
          <a:xfrm>
            <a:off x="468360" y="126828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934920" y="1189080"/>
            <a:ext cx="7724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算一算，说一说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26" name="Object 9"/>
          <p:cNvGraphicFramePr/>
          <p:nvPr/>
        </p:nvGraphicFramePr>
        <p:xfrm>
          <a:off x="1332000" y="2060640"/>
          <a:ext cx="833400" cy="95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2060640"/>
                    <a:ext cx="83340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0"/>
          <p:cNvGraphicFramePr/>
          <p:nvPr/>
        </p:nvGraphicFramePr>
        <p:xfrm>
          <a:off x="993600" y="3016080"/>
          <a:ext cx="1202040" cy="95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3600" y="3016080"/>
                    <a:ext cx="120204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1"/>
          <p:cNvGraphicFramePr/>
          <p:nvPr/>
        </p:nvGraphicFramePr>
        <p:xfrm>
          <a:off x="955800" y="4076640"/>
          <a:ext cx="89532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5800" y="4076640"/>
                    <a:ext cx="8953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5"/>
          <p:cNvGraphicFramePr/>
          <p:nvPr/>
        </p:nvGraphicFramePr>
        <p:xfrm>
          <a:off x="4238640" y="2060640"/>
          <a:ext cx="1141560" cy="95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38640" y="2060640"/>
                    <a:ext cx="114156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直接连接符 19"/>
          <p:cNvSpPr/>
          <p:nvPr/>
        </p:nvSpPr>
        <p:spPr>
          <a:xfrm>
            <a:off x="1395360" y="3112920"/>
            <a:ext cx="216000" cy="3603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直接连接符 20"/>
          <p:cNvSpPr/>
          <p:nvPr/>
        </p:nvSpPr>
        <p:spPr>
          <a:xfrm>
            <a:off x="1924200" y="3613320"/>
            <a:ext cx="215640" cy="3603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Box 21"/>
          <p:cNvSpPr/>
          <p:nvPr/>
        </p:nvSpPr>
        <p:spPr>
          <a:xfrm>
            <a:off x="1454040" y="285264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Box 22"/>
          <p:cNvSpPr/>
          <p:nvPr/>
        </p:nvSpPr>
        <p:spPr>
          <a:xfrm>
            <a:off x="1892160" y="383544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3882960" y="3016080"/>
          <a:ext cx="1509840" cy="95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2960" y="3016080"/>
                    <a:ext cx="150984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7"/>
          <p:cNvGraphicFramePr/>
          <p:nvPr/>
        </p:nvGraphicFramePr>
        <p:xfrm>
          <a:off x="3914640" y="4076640"/>
          <a:ext cx="865440" cy="955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1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14640" y="4076640"/>
                    <a:ext cx="86544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直接连接符 25"/>
          <p:cNvSpPr/>
          <p:nvPr/>
        </p:nvSpPr>
        <p:spPr>
          <a:xfrm>
            <a:off x="4373640" y="3112920"/>
            <a:ext cx="216000" cy="3603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直接连接符 26"/>
          <p:cNvSpPr/>
          <p:nvPr/>
        </p:nvSpPr>
        <p:spPr>
          <a:xfrm>
            <a:off x="4965840" y="3613320"/>
            <a:ext cx="323640" cy="3603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Box 27"/>
          <p:cNvSpPr/>
          <p:nvPr/>
        </p:nvSpPr>
        <p:spPr>
          <a:xfrm>
            <a:off x="4495680" y="28526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Box 28"/>
          <p:cNvSpPr/>
          <p:nvPr/>
        </p:nvSpPr>
        <p:spPr>
          <a:xfrm>
            <a:off x="4997520" y="38354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6" name="图片 29" descr="8.png"/>
          <p:cNvPicPr/>
          <p:nvPr/>
        </p:nvPicPr>
        <p:blipFill>
          <a:blip r:embed="rId15"/>
          <a:stretch/>
        </p:blipFill>
        <p:spPr>
          <a:xfrm>
            <a:off x="5635800" y="2173320"/>
            <a:ext cx="35082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9"/>
          <p:cNvSpPr/>
          <p:nvPr/>
        </p:nvSpPr>
        <p:spPr>
          <a:xfrm>
            <a:off x="539640" y="149688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先画一画，再涂一涂，再用算式表示结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00080" y="2492280"/>
          <a:ext cx="2519280" cy="154800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3280"/>
                <a:gridCol w="504720"/>
                <a:gridCol w="503280"/>
              </a:tblGrid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755640" y="4275000"/>
            <a:ext cx="395280" cy="738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1108080" y="4365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一半是多少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932360" y="2492280"/>
          <a:ext cx="2519280" cy="154800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3280"/>
                <a:gridCol w="504720"/>
                <a:gridCol w="503280"/>
              </a:tblGrid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3" name="组合 9"/>
          <p:cNvGrpSpPr/>
          <p:nvPr/>
        </p:nvGrpSpPr>
        <p:grpSpPr>
          <a:xfrm>
            <a:off x="4572000" y="4275000"/>
            <a:ext cx="3887640" cy="751320"/>
            <a:chOff x="4572000" y="4275000"/>
            <a:chExt cx="3887640" cy="751320"/>
          </a:xfrm>
        </p:grpSpPr>
        <p:pic>
          <p:nvPicPr>
            <p:cNvPr id="154" name="Picture 4" descr=""/>
            <p:cNvPicPr/>
            <p:nvPr/>
          </p:nvPicPr>
          <p:blipFill>
            <a:blip r:embed="rId4"/>
            <a:stretch/>
          </p:blipFill>
          <p:spPr>
            <a:xfrm>
              <a:off x="5112000" y="4275000"/>
              <a:ext cx="395640" cy="7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8"/>
            <p:cNvSpPr/>
            <p:nvPr/>
          </p:nvSpPr>
          <p:spPr>
            <a:xfrm>
              <a:off x="4572000" y="4292640"/>
              <a:ext cx="38876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把      平均分成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5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份，每份是多少？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9"/>
          <p:cNvSpPr/>
          <p:nvPr/>
        </p:nvSpPr>
        <p:spPr>
          <a:xfrm>
            <a:off x="539640" y="149688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在   里填上的数，在   里填上“＞”“＜”或“＝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圆角矩形 10"/>
          <p:cNvSpPr/>
          <p:nvPr/>
        </p:nvSpPr>
        <p:spPr>
          <a:xfrm>
            <a:off x="1371600" y="152892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椭圆 11"/>
          <p:cNvSpPr/>
          <p:nvPr/>
        </p:nvSpPr>
        <p:spPr>
          <a:xfrm>
            <a:off x="4416480" y="1541520"/>
            <a:ext cx="503280" cy="50328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60" name="Object 2"/>
          <p:cNvGraphicFramePr/>
          <p:nvPr/>
        </p:nvGraphicFramePr>
        <p:xfrm>
          <a:off x="1000080" y="2666880"/>
          <a:ext cx="1079640" cy="42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2666880"/>
                    <a:ext cx="107964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"/>
          <p:cNvGraphicFramePr/>
          <p:nvPr/>
        </p:nvGraphicFramePr>
        <p:xfrm>
          <a:off x="3917880" y="2617920"/>
          <a:ext cx="13082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17880" y="2617920"/>
                    <a:ext cx="1308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"/>
          <p:cNvGraphicFramePr/>
          <p:nvPr/>
        </p:nvGraphicFramePr>
        <p:xfrm>
          <a:off x="6885000" y="2604960"/>
          <a:ext cx="114444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85000" y="2604960"/>
                    <a:ext cx="11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5"/>
          <p:cNvGraphicFramePr/>
          <p:nvPr/>
        </p:nvGraphicFramePr>
        <p:xfrm>
          <a:off x="1042920" y="3279600"/>
          <a:ext cx="115272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3279600"/>
                    <a:ext cx="1152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6"/>
          <p:cNvGraphicFramePr/>
          <p:nvPr/>
        </p:nvGraphicFramePr>
        <p:xfrm>
          <a:off x="3863880" y="3218040"/>
          <a:ext cx="1295640" cy="95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63880" y="3218040"/>
                    <a:ext cx="129564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7"/>
          <p:cNvGraphicFramePr/>
          <p:nvPr/>
        </p:nvGraphicFramePr>
        <p:xfrm>
          <a:off x="6972480" y="3218040"/>
          <a:ext cx="1141200" cy="954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1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72480" y="3218040"/>
                    <a:ext cx="11412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8"/>
          <p:cNvGraphicFramePr/>
          <p:nvPr/>
        </p:nvGraphicFramePr>
        <p:xfrm>
          <a:off x="831960" y="4270320"/>
          <a:ext cx="2084400" cy="990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3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31960" y="4270320"/>
                    <a:ext cx="20844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13"/>
          <p:cNvGraphicFramePr/>
          <p:nvPr/>
        </p:nvGraphicFramePr>
        <p:xfrm>
          <a:off x="3652920" y="4278240"/>
          <a:ext cx="2503440" cy="99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5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52920" y="4278240"/>
                    <a:ext cx="25034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4"/>
          <p:cNvGraphicFramePr/>
          <p:nvPr/>
        </p:nvGraphicFramePr>
        <p:xfrm>
          <a:off x="6637320" y="4292640"/>
          <a:ext cx="2151000" cy="990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7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37320" y="4292640"/>
                    <a:ext cx="2151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圆角矩形 14"/>
          <p:cNvSpPr/>
          <p:nvPr/>
        </p:nvSpPr>
        <p:spPr>
          <a:xfrm>
            <a:off x="2197080" y="2576520"/>
            <a:ext cx="503280" cy="720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720720"/>
              <a:gd name="textAreaBottom" fmla="*/ 696240 h 720720"/>
            </a:gdLst>
            <a:ahLst/>
            <a:rect l="textAreaLeft" t="textAreaTop" r="textAreaRight" b="textAreaBottom"/>
            <a:pathLst>
              <a:path w="21600" h="30926">
                <a:moveTo>
                  <a:pt x="3600" y="0"/>
                </a:moveTo>
                <a:arcTo wR="3600" hR="3600" stAng="16200000" swAng="-5400000"/>
                <a:lnTo>
                  <a:pt x="0" y="27326"/>
                </a:lnTo>
                <a:arcTo wR="3600" hR="3600" stAng="10800000" swAng="-5400000"/>
                <a:lnTo>
                  <a:pt x="18000" y="30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圆角矩形 15"/>
          <p:cNvSpPr/>
          <p:nvPr/>
        </p:nvSpPr>
        <p:spPr>
          <a:xfrm>
            <a:off x="2197080" y="3414600"/>
            <a:ext cx="503280" cy="7192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719280"/>
              <a:gd name="textAreaBottom" fmla="*/ 694800 h 719280"/>
            </a:gdLst>
            <a:ahLst/>
            <a:rect l="textAreaLeft" t="textAreaTop" r="textAreaRight" b="textAreaBottom"/>
            <a:pathLst>
              <a:path w="21600" h="30864">
                <a:moveTo>
                  <a:pt x="3600" y="0"/>
                </a:moveTo>
                <a:arcTo wR="3600" hR="3600" stAng="16200000" swAng="-5400000"/>
                <a:lnTo>
                  <a:pt x="0" y="27264"/>
                </a:lnTo>
                <a:arcTo wR="3600" hR="3600" stAng="10800000" swAng="-5400000"/>
                <a:lnTo>
                  <a:pt x="18000" y="308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圆角矩形 16"/>
          <p:cNvSpPr/>
          <p:nvPr/>
        </p:nvSpPr>
        <p:spPr>
          <a:xfrm>
            <a:off x="5292720" y="2565360"/>
            <a:ext cx="503280" cy="7192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719280"/>
              <a:gd name="textAreaBottom" fmla="*/ 694800 h 719280"/>
            </a:gdLst>
            <a:ahLst/>
            <a:rect l="textAreaLeft" t="textAreaTop" r="textAreaRight" b="textAreaBottom"/>
            <a:pathLst>
              <a:path w="21600" h="30864">
                <a:moveTo>
                  <a:pt x="3600" y="0"/>
                </a:moveTo>
                <a:arcTo wR="3600" hR="3600" stAng="16200000" swAng="-5400000"/>
                <a:lnTo>
                  <a:pt x="0" y="27264"/>
                </a:lnTo>
                <a:arcTo wR="3600" hR="3600" stAng="10800000" swAng="-5400000"/>
                <a:lnTo>
                  <a:pt x="18000" y="308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圆角矩形 17"/>
          <p:cNvSpPr/>
          <p:nvPr/>
        </p:nvSpPr>
        <p:spPr>
          <a:xfrm>
            <a:off x="5292720" y="3402000"/>
            <a:ext cx="503280" cy="7192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719280"/>
              <a:gd name="textAreaBottom" fmla="*/ 694800 h 719280"/>
            </a:gdLst>
            <a:ahLst/>
            <a:rect l="textAreaLeft" t="textAreaTop" r="textAreaRight" b="textAreaBottom"/>
            <a:pathLst>
              <a:path w="21600" h="30864">
                <a:moveTo>
                  <a:pt x="3600" y="0"/>
                </a:moveTo>
                <a:arcTo wR="3600" hR="3600" stAng="16200000" swAng="-5400000"/>
                <a:lnTo>
                  <a:pt x="0" y="27264"/>
                </a:lnTo>
                <a:arcTo wR="3600" hR="3600" stAng="10800000" swAng="-5400000"/>
                <a:lnTo>
                  <a:pt x="18000" y="308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圆角矩形 18"/>
          <p:cNvSpPr/>
          <p:nvPr/>
        </p:nvSpPr>
        <p:spPr>
          <a:xfrm>
            <a:off x="8172360" y="2565360"/>
            <a:ext cx="503280" cy="7192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719280"/>
              <a:gd name="textAreaBottom" fmla="*/ 694800 h 719280"/>
            </a:gdLst>
            <a:ahLst/>
            <a:rect l="textAreaLeft" t="textAreaTop" r="textAreaRight" b="textAreaBottom"/>
            <a:pathLst>
              <a:path w="21600" h="30864">
                <a:moveTo>
                  <a:pt x="3600" y="0"/>
                </a:moveTo>
                <a:arcTo wR="3600" hR="3600" stAng="16200000" swAng="-5400000"/>
                <a:lnTo>
                  <a:pt x="0" y="27264"/>
                </a:lnTo>
                <a:arcTo wR="3600" hR="3600" stAng="10800000" swAng="-5400000"/>
                <a:lnTo>
                  <a:pt x="18000" y="308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圆角矩形 19"/>
          <p:cNvSpPr/>
          <p:nvPr/>
        </p:nvSpPr>
        <p:spPr>
          <a:xfrm>
            <a:off x="8172360" y="3402000"/>
            <a:ext cx="503280" cy="7192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719280"/>
              <a:gd name="textAreaBottom" fmla="*/ 694800 h 719280"/>
            </a:gdLst>
            <a:ahLst/>
            <a:rect l="textAreaLeft" t="textAreaTop" r="textAreaRight" b="textAreaBottom"/>
            <a:pathLst>
              <a:path w="21600" h="30864">
                <a:moveTo>
                  <a:pt x="3600" y="0"/>
                </a:moveTo>
                <a:arcTo wR="3600" hR="3600" stAng="16200000" swAng="-5400000"/>
                <a:lnTo>
                  <a:pt x="0" y="27264"/>
                </a:lnTo>
                <a:arcTo wR="3600" hR="3600" stAng="10800000" swAng="-5400000"/>
                <a:lnTo>
                  <a:pt x="18000" y="308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椭圆 20"/>
          <p:cNvSpPr/>
          <p:nvPr/>
        </p:nvSpPr>
        <p:spPr>
          <a:xfrm>
            <a:off x="1587600" y="4508640"/>
            <a:ext cx="541080" cy="54108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椭圆 21"/>
          <p:cNvSpPr/>
          <p:nvPr/>
        </p:nvSpPr>
        <p:spPr>
          <a:xfrm>
            <a:off x="4602240" y="4508640"/>
            <a:ext cx="539640" cy="54108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椭圆 22"/>
          <p:cNvSpPr/>
          <p:nvPr/>
        </p:nvSpPr>
        <p:spPr>
          <a:xfrm>
            <a:off x="7432560" y="4508640"/>
            <a:ext cx="540000" cy="54108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87" name="Object 15"/>
          <p:cNvGraphicFramePr/>
          <p:nvPr/>
        </p:nvGraphicFramePr>
        <p:xfrm>
          <a:off x="2298600" y="2517840"/>
          <a:ext cx="320760" cy="826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8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98600" y="2517840"/>
                    <a:ext cx="3207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16"/>
          <p:cNvGraphicFramePr/>
          <p:nvPr/>
        </p:nvGraphicFramePr>
        <p:xfrm>
          <a:off x="5367240" y="2635200"/>
          <a:ext cx="358920" cy="468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0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67240" y="2635200"/>
                    <a:ext cx="3589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7"/>
          <p:cNvGraphicFramePr/>
          <p:nvPr/>
        </p:nvGraphicFramePr>
        <p:xfrm>
          <a:off x="2300400" y="3354480"/>
          <a:ext cx="320400" cy="826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2" name="Object 1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300400" y="3354480"/>
                    <a:ext cx="3204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26"/>
          <p:cNvSpPr/>
          <p:nvPr/>
        </p:nvSpPr>
        <p:spPr>
          <a:xfrm>
            <a:off x="1609560" y="4494240"/>
            <a:ext cx="7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94" name="Object 18"/>
          <p:cNvGraphicFramePr/>
          <p:nvPr/>
        </p:nvGraphicFramePr>
        <p:xfrm>
          <a:off x="5380200" y="3521160"/>
          <a:ext cx="358560" cy="468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5" name="Object 1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80200" y="3521160"/>
                    <a:ext cx="3585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Box 28"/>
          <p:cNvSpPr/>
          <p:nvPr/>
        </p:nvSpPr>
        <p:spPr>
          <a:xfrm>
            <a:off x="4592520" y="4492800"/>
            <a:ext cx="7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97" name="Object 19"/>
          <p:cNvGraphicFramePr/>
          <p:nvPr/>
        </p:nvGraphicFramePr>
        <p:xfrm>
          <a:off x="8269200" y="2500200"/>
          <a:ext cx="320760" cy="827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8" name="Object 1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269200" y="2500200"/>
                    <a:ext cx="32076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20"/>
          <p:cNvGraphicFramePr/>
          <p:nvPr/>
        </p:nvGraphicFramePr>
        <p:xfrm>
          <a:off x="8261280" y="3338640"/>
          <a:ext cx="320760" cy="8269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0" name="Object 20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261280" y="3338640"/>
                    <a:ext cx="3207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Box 31"/>
          <p:cNvSpPr/>
          <p:nvPr/>
        </p:nvSpPr>
        <p:spPr>
          <a:xfrm>
            <a:off x="7424640" y="4492800"/>
            <a:ext cx="7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9"/>
          <p:cNvSpPr/>
          <p:nvPr/>
        </p:nvSpPr>
        <p:spPr>
          <a:xfrm>
            <a:off x="539640" y="149688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算一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04" name="Object 5"/>
          <p:cNvGraphicFramePr/>
          <p:nvPr/>
        </p:nvGraphicFramePr>
        <p:xfrm>
          <a:off x="1144440" y="2289240"/>
          <a:ext cx="86364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4440" y="2289240"/>
                    <a:ext cx="8636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7"/>
          <p:cNvGraphicFramePr/>
          <p:nvPr/>
        </p:nvGraphicFramePr>
        <p:xfrm>
          <a:off x="3132000" y="2284560"/>
          <a:ext cx="102240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2284560"/>
                    <a:ext cx="10224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8"/>
          <p:cNvGraphicFramePr/>
          <p:nvPr/>
        </p:nvGraphicFramePr>
        <p:xfrm>
          <a:off x="5140440" y="2289240"/>
          <a:ext cx="1023840" cy="99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0440" y="2289240"/>
                    <a:ext cx="10238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9"/>
          <p:cNvGraphicFramePr/>
          <p:nvPr/>
        </p:nvGraphicFramePr>
        <p:xfrm>
          <a:off x="7229520" y="2276640"/>
          <a:ext cx="1022400" cy="99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29520" y="2276640"/>
                    <a:ext cx="10224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9"/>
          <p:cNvSpPr/>
          <p:nvPr/>
        </p:nvSpPr>
        <p:spPr>
          <a:xfrm>
            <a:off x="539640" y="149688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782640" y="2289240"/>
          <a:ext cx="220500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2289240"/>
                    <a:ext cx="22050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8"/>
          <p:cNvGraphicFramePr/>
          <p:nvPr/>
        </p:nvGraphicFramePr>
        <p:xfrm>
          <a:off x="3492360" y="2276640"/>
          <a:ext cx="220500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2276640"/>
                    <a:ext cx="22050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9"/>
          <p:cNvGraphicFramePr/>
          <p:nvPr/>
        </p:nvGraphicFramePr>
        <p:xfrm>
          <a:off x="6254640" y="2276640"/>
          <a:ext cx="2203560" cy="99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54640" y="2276640"/>
                    <a:ext cx="22035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10"/>
          <p:cNvGraphicFramePr/>
          <p:nvPr/>
        </p:nvGraphicFramePr>
        <p:xfrm>
          <a:off x="1108080" y="2276640"/>
          <a:ext cx="511200" cy="99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8080" y="2276640"/>
                    <a:ext cx="5112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11"/>
          <p:cNvGraphicFramePr/>
          <p:nvPr/>
        </p:nvGraphicFramePr>
        <p:xfrm>
          <a:off x="3867120" y="2260440"/>
          <a:ext cx="382680" cy="99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67120" y="2260440"/>
                    <a:ext cx="3826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12"/>
          <p:cNvGraphicFramePr/>
          <p:nvPr/>
        </p:nvGraphicFramePr>
        <p:xfrm>
          <a:off x="7053120" y="2276640"/>
          <a:ext cx="511200" cy="990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5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53120" y="2276640"/>
                    <a:ext cx="5112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9"/>
          <p:cNvSpPr/>
          <p:nvPr/>
        </p:nvSpPr>
        <p:spPr>
          <a:xfrm>
            <a:off x="539640" y="1496880"/>
            <a:ext cx="8280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把一块巧克力的   平均分成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份，每份是这块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克力的几分之几？画一画，算一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28" name="Object 5"/>
          <p:cNvGraphicFramePr/>
          <p:nvPr/>
        </p:nvGraphicFramePr>
        <p:xfrm>
          <a:off x="3583080" y="1405080"/>
          <a:ext cx="33156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3080" y="1405080"/>
                    <a:ext cx="3315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258920" y="3357720"/>
          <a:ext cx="2449440" cy="1079280"/>
        </p:xfrm>
        <a:graphic>
          <a:graphicData uri="http://schemas.openxmlformats.org/drawingml/2006/table">
            <a:tbl>
              <a:tblPr/>
              <a:tblGrid>
                <a:gridCol w="1224000"/>
                <a:gridCol w="122544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d63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d63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258920" y="3357720"/>
          <a:ext cx="1224000" cy="107928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daede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7117"/>
                    </a:solidFill>
                  </a:tcPr>
                </a:tc>
              </a:tr>
            </a:tbl>
          </a:graphicData>
        </a:graphic>
      </p:graphicFrame>
      <p:sp>
        <p:nvSpPr>
          <p:cNvPr id="232" name="直接连接符 14"/>
          <p:cNvSpPr/>
          <p:nvPr/>
        </p:nvSpPr>
        <p:spPr>
          <a:xfrm>
            <a:off x="1258920" y="4076640"/>
            <a:ext cx="1224000" cy="0"/>
          </a:xfrm>
          <a:prstGeom prst="line">
            <a:avLst/>
          </a:prstGeom>
          <a:ln w="381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直接连接符 15"/>
          <p:cNvSpPr/>
          <p:nvPr/>
        </p:nvSpPr>
        <p:spPr>
          <a:xfrm>
            <a:off x="2482920" y="3724200"/>
            <a:ext cx="1224000" cy="0"/>
          </a:xfrm>
          <a:prstGeom prst="line">
            <a:avLst/>
          </a:prstGeom>
          <a:ln w="381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直接连接符 16"/>
          <p:cNvSpPr/>
          <p:nvPr/>
        </p:nvSpPr>
        <p:spPr>
          <a:xfrm>
            <a:off x="2482920" y="4076640"/>
            <a:ext cx="1224000" cy="0"/>
          </a:xfrm>
          <a:prstGeom prst="line">
            <a:avLst/>
          </a:prstGeom>
          <a:ln w="381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矩形 17"/>
          <p:cNvSpPr/>
          <p:nvPr/>
        </p:nvSpPr>
        <p:spPr>
          <a:xfrm>
            <a:off x="1258920" y="3357720"/>
            <a:ext cx="1204920" cy="358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直接连接符 13"/>
          <p:cNvSpPr/>
          <p:nvPr/>
        </p:nvSpPr>
        <p:spPr>
          <a:xfrm>
            <a:off x="1258920" y="3726000"/>
            <a:ext cx="1224000" cy="0"/>
          </a:xfrm>
          <a:prstGeom prst="line">
            <a:avLst/>
          </a:prstGeom>
          <a:ln w="381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37" name="Object 8"/>
          <p:cNvGraphicFramePr/>
          <p:nvPr/>
        </p:nvGraphicFramePr>
        <p:xfrm>
          <a:off x="5297400" y="3086280"/>
          <a:ext cx="86364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7400" y="3086280"/>
                    <a:ext cx="8636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9"/>
          <p:cNvGraphicFramePr/>
          <p:nvPr/>
        </p:nvGraphicFramePr>
        <p:xfrm>
          <a:off x="4968720" y="4076640"/>
          <a:ext cx="124776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68720" y="4076640"/>
                    <a:ext cx="12477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10"/>
          <p:cNvGraphicFramePr/>
          <p:nvPr/>
        </p:nvGraphicFramePr>
        <p:xfrm>
          <a:off x="4968720" y="5054760"/>
          <a:ext cx="704880" cy="99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68720" y="5054760"/>
                    <a:ext cx="7048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5T06:11:43Z</dcterms:created>
  <dc:creator>Administrator</dc:creator>
  <dc:description/>
  <dc:language>en-US</dc:language>
  <cp:lastModifiedBy>WIN</cp:lastModifiedBy>
  <dcterms:modified xsi:type="dcterms:W3CDTF">2016-04-05T08:22:4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