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442-257A-4CD6-AB06-580C837A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304-C46C-45E0-B02C-2DB1B7DD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911-BF98-4231-9D88-A2BF19FE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EAA-E9F4-43F1-90F0-6A4D8CE4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E53-CAC3-4461-BFF6-0968F5E6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A2D-1196-45A8-89A0-5861784A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BE4-4967-4AEE-BF26-63988010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202-7442-4A94-B6BA-1D41B7C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7F0-DF80-4D8F-A97C-F510A4FA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B54-20D5-47A6-87BA-BA9E0276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8EC-4EF5-4CB2-A1CF-27493B0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278-67BF-4535-ACA1-8134561E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D0D4-D16D-4079-A723-63FDF52DF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:\My Documents\Tencent Files\352717810\Image\C2C\)14_41X(3K_JUK8E71IH`L7.jpg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28600" y="2209680"/>
          <a:ext cx="8686800" cy="4430880"/>
        </p:xfrm>
        <a:graphic>
          <a:graphicData uri="http://schemas.openxmlformats.org/drawingml/2006/table">
            <a:tbl>
              <a:tblPr/>
              <a:tblGrid>
                <a:gridCol w="1577880"/>
                <a:gridCol w="2368800"/>
                <a:gridCol w="2369880"/>
                <a:gridCol w="2370240"/>
              </a:tblGrid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制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修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件件打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己安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零件尺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支生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按原零件大小打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标准化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零件制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简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批量生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装简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修理简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随意换相同零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304920" y="24148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这样做有三个好处：零件制造简便，可以批量生产；组装简便，可以从各种零件中随便抽取，不存在两种零件不能配合的情况；修理简便，某个零件坏了，从那种零件的一堆中随便拿一个换上就心里，不用另外打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304920" y="1409400"/>
            <a:ext cx="845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这样做有三个好处：零件制造简便，可以批量生产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；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组装简便，可以从各种零件中随便抽取，不存在两种零件不能配合的情况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；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修理简便，某个零件坏了，从那种零件的一堆中随便拿一个换上就心里，不用另外打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43000" y="546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共有三个好处，三个好处是并列的，用两个分号隔开，表示三个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D:\My Documents\Tencent Files\352717810\Image\C2C\9F8833P)9~{C{3HZAMRO@{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D:\My Documents\Tencent Files\352717810\Image\C2C\9F8833P)9~{C{3HZAMRO@{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:\Users\Administrator\AppData\Roaming\Tencent\Users\352717810\QQ\WinTemp\RichOle\_OF{O)B)J7LE7ECSSH$DAMD.png"/>
          <p:cNvPicPr/>
          <p:nvPr/>
        </p:nvPicPr>
        <p:blipFill>
          <a:blip r:embed="rId1"/>
          <a:stretch/>
        </p:blipFill>
        <p:spPr>
          <a:xfrm>
            <a:off x="0" y="0"/>
            <a:ext cx="430992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Administrator\AppData\Roaming\Tencent\Users\352717810\QQ\WinTemp\RichOle\@1NM7S}3_X5KN9GKZKM67PD.png"/>
          <p:cNvPicPr/>
          <p:nvPr/>
        </p:nvPicPr>
        <p:blipFill>
          <a:blip r:embed="rId2"/>
          <a:stretch/>
        </p:blipFill>
        <p:spPr>
          <a:xfrm>
            <a:off x="4267080" y="0"/>
            <a:ext cx="383220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Administrator\AppData\Roaming\Tencent\Users\352717810\QQ\WinTemp\RichOle\U4II0`4)]%@6R@0KVX[7`}4.png"/>
          <p:cNvPicPr/>
          <p:nvPr/>
        </p:nvPicPr>
        <p:blipFill>
          <a:blip r:embed="rId3"/>
          <a:stretch/>
        </p:blipFill>
        <p:spPr>
          <a:xfrm>
            <a:off x="0" y="4495680"/>
            <a:ext cx="45543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Administrator\AppData\Roaming\Tencent\Users\352717810\QQ\WinTemp\RichOle\U40E]XMBY@S%XPY_ID{6AK6.png"/>
          <p:cNvPicPr/>
          <p:nvPr/>
        </p:nvPicPr>
        <p:blipFill>
          <a:blip r:embed="rId4"/>
          <a:stretch/>
        </p:blipFill>
        <p:spPr>
          <a:xfrm>
            <a:off x="6099120" y="2514600"/>
            <a:ext cx="30448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Administrator\AppData\Roaming\Tencent\Users\352717810\QQ\WinTemp\RichOle\2282`A9$$%2`T%3[QH{8]D7.png"/>
          <p:cNvPicPr/>
          <p:nvPr/>
        </p:nvPicPr>
        <p:blipFill>
          <a:blip r:embed="rId5"/>
          <a:stretch/>
        </p:blipFill>
        <p:spPr>
          <a:xfrm>
            <a:off x="3276720" y="2590920"/>
            <a:ext cx="3124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:\Users\Administrator\AppData\Roaming\Tencent\Users\352717810\QQ\WinTemp\RichOle\_OF{O)B)J7LE7ECSSH$DAMD.png"/>
          <p:cNvPicPr/>
          <p:nvPr/>
        </p:nvPicPr>
        <p:blipFill>
          <a:blip r:embed="rId1"/>
          <a:stretch/>
        </p:blipFill>
        <p:spPr>
          <a:xfrm>
            <a:off x="0" y="0"/>
            <a:ext cx="43099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Administrator\AppData\Roaming\Tencent\Users\352717810\QQ\WinTemp\RichOle\@1NM7S}3_X5KN9GKZKM67PD.png"/>
          <p:cNvPicPr/>
          <p:nvPr/>
        </p:nvPicPr>
        <p:blipFill>
          <a:blip r:embed="rId2"/>
          <a:stretch/>
        </p:blipFill>
        <p:spPr>
          <a:xfrm>
            <a:off x="4267080" y="0"/>
            <a:ext cx="3832200" cy="22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Administrator\AppData\Roaming\Tencent\Users\352717810\QQ\WinTemp\RichOle\U4II0`4)]%@6R@0KVX[7`}4.png"/>
          <p:cNvPicPr/>
          <p:nvPr/>
        </p:nvPicPr>
        <p:blipFill>
          <a:blip r:embed="rId3"/>
          <a:stretch/>
        </p:blipFill>
        <p:spPr>
          <a:xfrm>
            <a:off x="0" y="4495680"/>
            <a:ext cx="455436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Administrator\AppData\Roaming\Tencent\Users\352717810\QQ\WinTemp\RichOle\U40E]XMBY@S%XPY_ID{6AK6.png"/>
          <p:cNvPicPr/>
          <p:nvPr/>
        </p:nvPicPr>
        <p:blipFill>
          <a:blip r:embed="rId4"/>
          <a:stretch/>
        </p:blipFill>
        <p:spPr>
          <a:xfrm>
            <a:off x="6099120" y="2514600"/>
            <a:ext cx="304488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Administrator\AppData\Roaming\Tencent\Users\352717810\QQ\WinTemp\RichOle\2282`A9$$%2`T%3[QH{8]D7.png"/>
          <p:cNvPicPr/>
          <p:nvPr/>
        </p:nvPicPr>
        <p:blipFill>
          <a:blip r:embed="rId5"/>
          <a:stretch/>
        </p:blipFill>
        <p:spPr>
          <a:xfrm>
            <a:off x="3276720" y="2590920"/>
            <a:ext cx="3124080" cy="2271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5410080" y="6172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毕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字印刷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0" y="2666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迪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0" y="38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莱特兄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飞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181480" y="2133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贝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4572000" y="495288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动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D:\My Documents\Tencent Files\352717810\Image\C2C\9F8833P)9~{C{3HZAMRO@{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85800" y="838080"/>
            <a:ext cx="52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57200" y="151488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认真阅读课文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自然段，你知道第一个句子运用了哪种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爱迪生发明了电灯泡，贝尔发明了电话，莱特兄弟发明了飞机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但是有一个人发明的“东西”，却是看不见，摸不着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914400" y="5257800"/>
            <a:ext cx="4495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905120" y="5335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排比的修辞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D:\My Documents\Tencent Files\352717810\Image\C2C\9F8833P)9~{C{3HZAMRO@{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685800" y="838080"/>
            <a:ext cx="52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178920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排比的修辞手法，仿写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发明了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发明了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发明了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……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但是有一个人发明的“东西”，却是看不见，摸不着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914400" y="5257800"/>
            <a:ext cx="4495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D:\My Documents\Tencent Files\352717810\Image\C2C\%`0TQC1W4CJG6Z1U2L2[%QR.jpg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0" y="1065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用自己喜欢的方式读课文，注意读准字音，读通句子，难读的句子多读几遍，不理解的词和同桌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081520" y="28195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惠特尼究竟发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D:\My Documents\Tencent Files\352717810\Image\C2C\%`0TQC1W4CJG6Z1U2L2[%QR.jpg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0" y="2215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枪不是他发明的，造枪的技术不是他发明的，他甚至连一个零件也没发明。惠特尼发明的，是一种组织管理的“方法”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——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标准化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533520" y="611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什么是标准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28600" y="31464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成批生产同一标准的零件，然后组装成成品，使原来只能一个个生产的物品，变成批量化生产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0" y="30924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来制作步枪的方法与标准化的方法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" y="2209680"/>
          <a:ext cx="8686800" cy="4430880"/>
        </p:xfrm>
        <a:graphic>
          <a:graphicData uri="http://schemas.openxmlformats.org/drawingml/2006/table">
            <a:tbl>
              <a:tblPr/>
              <a:tblGrid>
                <a:gridCol w="1577880"/>
                <a:gridCol w="2368800"/>
                <a:gridCol w="2369880"/>
                <a:gridCol w="2370240"/>
              </a:tblGrid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制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修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标准化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04:17:34Z</dcterms:created>
  <dc:creator>Administrator</dc:creator>
  <dc:description/>
  <dc:language>en-US</dc:language>
  <cp:lastModifiedBy>Administrator</cp:lastModifiedBy>
  <dcterms:modified xsi:type="dcterms:W3CDTF">2016-10-31T08:02:21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