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type.wav" ContentType="audio/x-wav"/>
  <Override PartName="/ppt/media/image10.png" ContentType="image/png"/>
  <Override PartName="/ppt/media/image11.jpeg" ContentType="image/jpeg"/>
  <Override PartName="/ppt/media/chimes.wav" ContentType="audio/x-wav"/>
  <Override PartName="/ppt/media/image7.png" ContentType="image/png"/>
  <Override PartName="/ppt/media/image4.gif" ContentType="image/gif"/>
  <Override PartName="/ppt/media/image13.png" ContentType="image/png"/>
  <Override PartName="/ppt/media/image12.jpeg" ContentType="image/jpeg"/>
  <Override PartName="/ppt/media/image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5.gif" ContentType="image/gif"/>
  <Override PartName="/ppt/media/projctor.wav" ContentType="audio/x-wav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28D-447C-4EC9-B480-7F187E18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2E6-894A-4BFD-A9A7-A4DFFCC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123-1AE7-4521-996B-42F97F43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BA7-9DB5-43D6-987F-20B61F35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95B3-82DF-47D9-8C3E-F54106C5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28D9-65EC-4328-9E0F-786B419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3DBB-1813-4778-9F40-54E3F935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AAA-D884-4BE2-BE1D-83F395C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95C-98E3-40DE-B501-268B229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95F-3253-4B00-B71A-3C55D745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92A-230F-4512-AC22-4CDD7A9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449-2E95-4140-9412-802D2D4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AD7-80FB-40E0-BC92-4D9FFF6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A789-955D-4C44-A780-1D3B34EB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9B20-5954-49A7-959D-685DF1B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E52F-8B93-48FB-A859-2A77B1B5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CA77-A0C2-4D95-AD55-2BC95C6D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F488-8965-42AE-9C54-73780B04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43C6-0440-4298-A7C6-353BA94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D4AD-6C18-46CD-B1CF-FF2980FE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E263-B0A7-44CA-A730-B67FB98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7CE8-113A-49A5-BDA9-94FA8FC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8C1-6E1C-4A44-9D44-2C00530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E45B-ABBC-4964-B48F-CB7B8DCE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B95A-79E5-442D-B06D-CD9CFF6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C180-6DDB-4CC2-946D-084D7FF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0118-2BD9-45EB-AECE-F29A3C6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EDBB-519A-42AF-8AFC-4310CF1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271A-EA52-4D04-8D06-606D7A3E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F5B3-899F-4611-BE0C-1E31825C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8DBF-9803-4049-89B3-01BE137D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2D2C-283B-4D7A-8894-BB8B5E48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1FA4-158C-4AA8-933B-47ECCBC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E59-C564-4E47-AF6C-938C8483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F275-A192-4265-9849-0E780AB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41E4-6547-4379-9816-F238AE3C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7A6A-99CE-45E9-8F2F-B812CFB7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66109-3596-46E0-9CD5-D3DCBC8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9D94-459E-4BDB-8BFA-9F8B1B4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FAE2-C98A-4CE3-9BCC-1D9797D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A08E-0347-4280-8937-F8CADAFC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A8DA-F422-44EE-ACBB-6EA6F037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6466-0B72-43AD-9D5D-5B310A4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8AA-C45E-48D1-A1E5-4EF0653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BC9-55EA-4F12-893A-224349F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7A4-A78C-41CB-8CE7-6481638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615-45CF-4E3B-923F-31E8640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70E-E8C7-4792-9217-BFD0FC0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00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177-1D61-4D7D-9933-260613F5C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ADF-D621-45FE-A17D-94CF788E4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96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00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D5EC-23AE-4D48-8034-13DAD7B3F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47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C870-CA9A-489E-836F-80B1CA063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1.jpeg"/><Relationship Id="rId3" Type="http://schemas.openxmlformats.org/officeDocument/2006/relationships/image" Target="../media/image5.gif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174040" y="404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三、浓硫酸的特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95280" y="1197000"/>
            <a:ext cx="7777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吸水性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吸收水份（包括游离水和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晶水）的性质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42040" y="34830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可干燥与它不反应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气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——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371520" y="4581360"/>
            <a:ext cx="3368880" cy="1371600"/>
            <a:chOff x="371520" y="4581360"/>
            <a:chExt cx="3368880" cy="1371600"/>
          </a:xfrm>
        </p:grpSpPr>
        <p:sp>
          <p:nvSpPr>
            <p:cNvPr id="249" name="Rectangle 6"/>
            <p:cNvSpPr/>
            <p:nvPr/>
          </p:nvSpPr>
          <p:spPr>
            <a:xfrm>
              <a:off x="435600" y="4581360"/>
              <a:ext cx="222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Rectangle 7"/>
            <p:cNvSpPr/>
            <p:nvPr/>
          </p:nvSpPr>
          <p:spPr>
            <a:xfrm>
              <a:off x="371520" y="5373360"/>
              <a:ext cx="273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HCl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2748960" y="4581360"/>
              <a:ext cx="99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、 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2" name="Group 38"/>
          <p:cNvGrpSpPr/>
          <p:nvPr/>
        </p:nvGrpSpPr>
        <p:grpSpPr>
          <a:xfrm>
            <a:off x="4356360" y="3262320"/>
            <a:ext cx="4531680" cy="3370320"/>
            <a:chOff x="4356360" y="3262320"/>
            <a:chExt cx="4531680" cy="3370320"/>
          </a:xfrm>
        </p:grpSpPr>
        <p:sp>
          <p:nvSpPr>
            <p:cNvPr id="253" name="Text Box 10"/>
            <p:cNvSpPr/>
            <p:nvPr/>
          </p:nvSpPr>
          <p:spPr>
            <a:xfrm>
              <a:off x="4622400" y="5929200"/>
              <a:ext cx="289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气体干燥剂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54" name="Group 16"/>
            <p:cNvGrpSpPr/>
            <p:nvPr/>
          </p:nvGrpSpPr>
          <p:grpSpPr>
            <a:xfrm>
              <a:off x="5155920" y="3719160"/>
              <a:ext cx="1427400" cy="1876320"/>
              <a:chOff x="5155920" y="3719160"/>
              <a:chExt cx="1427400" cy="1876320"/>
            </a:xfrm>
          </p:grpSpPr>
          <p:sp>
            <p:nvSpPr>
              <p:cNvPr id="255" name="AutoShape 17"/>
              <p:cNvSpPr/>
              <p:nvPr/>
            </p:nvSpPr>
            <p:spPr>
              <a:xfrm>
                <a:off x="5476320" y="4363920"/>
                <a:ext cx="837360" cy="1231560"/>
              </a:xfrm>
              <a:custGeom>
                <a:avLst/>
                <a:gdLst>
                  <a:gd name="textAreaLeft" fmla="*/ 40680 w 837360"/>
                  <a:gd name="textAreaRight" fmla="*/ 796680 w 837360"/>
                  <a:gd name="textAreaTop" fmla="*/ 40680 h 1231560"/>
                  <a:gd name="textAreaBottom" fmla="*/ 1190880 h 1231560"/>
                </a:gdLst>
                <a:ahLst/>
                <a:rect l="textAreaLeft" t="textAreaTop" r="textAreaRight" b="textAreaBottom"/>
                <a:pathLst>
                  <a:path w="21600" h="31764">
                    <a:moveTo>
                      <a:pt x="3600" y="0"/>
                    </a:moveTo>
                    <a:arcTo wR="3600" hR="3600" stAng="16200000" swAng="-5400000"/>
                    <a:lnTo>
                      <a:pt x="0" y="28164"/>
                    </a:lnTo>
                    <a:arcTo wR="3600" hR="3600" stAng="10800000" swAng="-5400000"/>
                    <a:lnTo>
                      <a:pt x="18000" y="317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4a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Freeform 18"/>
              <p:cNvSpPr/>
              <p:nvPr/>
            </p:nvSpPr>
            <p:spPr>
              <a:xfrm>
                <a:off x="5558760" y="4176360"/>
                <a:ext cx="677160" cy="204480"/>
              </a:xfrm>
              <a:custGeom>
                <a:avLst/>
                <a:gdLst/>
                <a:ahLst/>
                <a:rect l="l" t="t" r="r" b="b"/>
                <a:pathLst>
                  <a:path w="1400" h="680">
                    <a:moveTo>
                      <a:pt x="0" y="680"/>
                    </a:moveTo>
                    <a:lnTo>
                      <a:pt x="300" y="520"/>
                    </a:lnTo>
                    <a:lnTo>
                      <a:pt x="300" y="0"/>
                    </a:lnTo>
                    <a:lnTo>
                      <a:pt x="1100" y="0"/>
                    </a:lnTo>
                    <a:lnTo>
                      <a:pt x="1100" y="520"/>
                    </a:lnTo>
                    <a:lnTo>
                      <a:pt x="1400" y="680"/>
                    </a:lnTo>
                  </a:path>
                </a:pathLst>
              </a:custGeom>
              <a:solidFill>
                <a:srgbClr val="00004a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 flipV="1">
                <a:off x="5155920" y="3768480"/>
                <a:ext cx="591480" cy="483840"/>
              </a:xfrm>
              <a:custGeom>
                <a:avLst/>
                <a:gdLst/>
                <a:ahLst/>
                <a:rect l="l" t="t" r="r" b="b"/>
                <a:pathLst>
                  <a:path w="2400" h="2400">
                    <a:moveTo>
                      <a:pt x="0" y="2400"/>
                    </a:moveTo>
                    <a:lnTo>
                      <a:pt x="2000" y="2400"/>
                    </a:lnTo>
                    <a:lnTo>
                      <a:pt x="2200" y="2346"/>
                    </a:lnTo>
                    <a:lnTo>
                      <a:pt x="2346" y="2200"/>
                    </a:lnTo>
                    <a:lnTo>
                      <a:pt x="2400" y="2000"/>
                    </a:lnTo>
                    <a:lnTo>
                      <a:pt x="2400" y="0"/>
                    </a:ln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" name="Freeform 20"/>
              <p:cNvSpPr/>
              <p:nvPr/>
            </p:nvSpPr>
            <p:spPr>
              <a:xfrm flipV="1">
                <a:off x="5173200" y="3718800"/>
                <a:ext cx="649800" cy="533160"/>
              </a:xfrm>
              <a:custGeom>
                <a:avLst/>
                <a:gdLst/>
                <a:ahLst/>
                <a:rect l="l" t="t" r="r" b="b"/>
                <a:pathLst>
                  <a:path w="2640" h="2640">
                    <a:moveTo>
                      <a:pt x="0" y="2640"/>
                    </a:moveTo>
                    <a:lnTo>
                      <a:pt x="2000" y="2640"/>
                    </a:lnTo>
                    <a:lnTo>
                      <a:pt x="2166" y="2618"/>
                    </a:lnTo>
                    <a:lnTo>
                      <a:pt x="2320" y="2554"/>
                    </a:lnTo>
                    <a:lnTo>
                      <a:pt x="2453" y="2453"/>
                    </a:lnTo>
                    <a:lnTo>
                      <a:pt x="2554" y="2320"/>
                    </a:lnTo>
                    <a:lnTo>
                      <a:pt x="2618" y="2166"/>
                    </a:lnTo>
                    <a:lnTo>
                      <a:pt x="2640" y="2000"/>
                    </a:lnTo>
                    <a:lnTo>
                      <a:pt x="2640" y="0"/>
                    </a:ln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9" name="Line 21"/>
              <p:cNvSpPr/>
              <p:nvPr/>
            </p:nvSpPr>
            <p:spPr>
              <a:xfrm>
                <a:off x="5823360" y="4252680"/>
                <a:ext cx="0" cy="11426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60" name="xjh01-1-3015:36:35"/>
              <p:cNvGrpSpPr/>
              <p:nvPr/>
            </p:nvGrpSpPr>
            <p:grpSpPr>
              <a:xfrm>
                <a:off x="5933160" y="3719520"/>
                <a:ext cx="650160" cy="685440"/>
                <a:chOff x="5933160" y="3719520"/>
                <a:chExt cx="650160" cy="685440"/>
              </a:xfrm>
            </p:grpSpPr>
            <p:sp>
              <p:nvSpPr>
                <p:cNvPr id="261" name="Freeform 23"/>
                <p:cNvSpPr/>
                <p:nvPr/>
              </p:nvSpPr>
              <p:spPr>
                <a:xfrm flipH="1" flipV="1">
                  <a:off x="5992200" y="3781440"/>
                  <a:ext cx="591120" cy="623160"/>
                </a:xfrm>
                <a:custGeom>
                  <a:avLst/>
                  <a:gdLst/>
                  <a:ahLst/>
                  <a:rect l="l" t="t" r="r" b="b"/>
                  <a:pathLst>
                    <a:path w="2400" h="2400">
                      <a:moveTo>
                        <a:pt x="0" y="2400"/>
                      </a:moveTo>
                      <a:lnTo>
                        <a:pt x="2000" y="2400"/>
                      </a:lnTo>
                      <a:lnTo>
                        <a:pt x="2200" y="2346"/>
                      </a:lnTo>
                      <a:lnTo>
                        <a:pt x="2346" y="2200"/>
                      </a:lnTo>
                      <a:lnTo>
                        <a:pt x="2400" y="2000"/>
                      </a:lnTo>
                      <a:lnTo>
                        <a:pt x="2400" y="0"/>
                      </a:lnTo>
                    </a:path>
                  </a:pathLst>
                </a:custGeom>
                <a:noFill/>
                <a:ln w="284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4"/>
                <p:cNvSpPr/>
                <p:nvPr/>
              </p:nvSpPr>
              <p:spPr>
                <a:xfrm flipH="1" flipV="1">
                  <a:off x="5933160" y="3719520"/>
                  <a:ext cx="650160" cy="685440"/>
                </a:xfrm>
                <a:custGeom>
                  <a:avLst/>
                  <a:gdLst/>
                  <a:ahLst/>
                  <a:rect l="l" t="t" r="r" b="b"/>
                  <a:pathLst>
                    <a:path w="2640" h="2640">
                      <a:moveTo>
                        <a:pt x="0" y="2640"/>
                      </a:moveTo>
                      <a:lnTo>
                        <a:pt x="2000" y="2640"/>
                      </a:lnTo>
                      <a:lnTo>
                        <a:pt x="2166" y="2618"/>
                      </a:lnTo>
                      <a:lnTo>
                        <a:pt x="2320" y="2554"/>
                      </a:lnTo>
                      <a:lnTo>
                        <a:pt x="2453" y="2453"/>
                      </a:lnTo>
                      <a:lnTo>
                        <a:pt x="2554" y="2320"/>
                      </a:lnTo>
                      <a:lnTo>
                        <a:pt x="2618" y="2166"/>
                      </a:lnTo>
                      <a:lnTo>
                        <a:pt x="2640" y="2000"/>
                      </a:lnTo>
                      <a:lnTo>
                        <a:pt x="2640" y="0"/>
                      </a:lnTo>
                    </a:path>
                  </a:pathLst>
                </a:custGeom>
                <a:noFill/>
                <a:ln w="284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xjhhxsy4"/>
              <p:cNvSpPr/>
              <p:nvPr/>
            </p:nvSpPr>
            <p:spPr>
              <a:xfrm>
                <a:off x="5628600" y="4024080"/>
                <a:ext cx="507240" cy="228240"/>
              </a:xfrm>
              <a:prstGeom prst="flowChartManualOperation">
                <a:avLst/>
              </a:prstGeom>
              <a:solidFill>
                <a:srgbClr val="c0c0c0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Rectangle 26"/>
              <p:cNvSpPr/>
              <p:nvPr/>
            </p:nvSpPr>
            <p:spPr>
              <a:xfrm>
                <a:off x="5628600" y="4100400"/>
                <a:ext cx="532800" cy="75600"/>
              </a:xfrm>
              <a:prstGeom prst="rect">
                <a:avLst/>
              </a:prstGeom>
              <a:solidFill>
                <a:srgbClr val="000066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AutoShape 27"/>
              <p:cNvSpPr/>
              <p:nvPr/>
            </p:nvSpPr>
            <p:spPr>
              <a:xfrm>
                <a:off x="5477760" y="5090760"/>
                <a:ext cx="8377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Line 28"/>
              <p:cNvSpPr/>
              <p:nvPr/>
            </p:nvSpPr>
            <p:spPr>
              <a:xfrm>
                <a:off x="5823360" y="4252680"/>
                <a:ext cx="0" cy="1218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Line 29"/>
              <p:cNvSpPr/>
              <p:nvPr/>
            </p:nvSpPr>
            <p:spPr>
              <a:xfrm>
                <a:off x="5747400" y="4252680"/>
                <a:ext cx="0" cy="1218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AutoShape 35"/>
            <p:cNvSpPr/>
            <p:nvPr/>
          </p:nvSpPr>
          <p:spPr>
            <a:xfrm>
              <a:off x="6907680" y="5167440"/>
              <a:ext cx="1980360" cy="609480"/>
            </a:xfrm>
            <a:prstGeom prst="wedgeRoundRectCallout">
              <a:avLst>
                <a:gd name="adj1" fmla="val -89101"/>
                <a:gd name="adj2" fmla="val -11458"/>
                <a:gd name="adj3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浓硫酸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Text Box 36"/>
            <p:cNvSpPr/>
            <p:nvPr/>
          </p:nvSpPr>
          <p:spPr>
            <a:xfrm>
              <a:off x="4356360" y="32623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气体 →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026"/>
          <p:cNvGrpSpPr/>
          <p:nvPr/>
        </p:nvGrpSpPr>
        <p:grpSpPr>
          <a:xfrm>
            <a:off x="152280" y="0"/>
            <a:ext cx="3886200" cy="1066680"/>
            <a:chOff x="152280" y="0"/>
            <a:chExt cx="3886200" cy="1066680"/>
          </a:xfrm>
        </p:grpSpPr>
        <p:sp>
          <p:nvSpPr>
            <p:cNvPr id="271" name="Rectangle 1027"/>
            <p:cNvSpPr/>
            <p:nvPr/>
          </p:nvSpPr>
          <p:spPr>
            <a:xfrm>
              <a:off x="1143000" y="380880"/>
              <a:ext cx="2895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演 示 实 验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72" name="Picture 1028" descr="shiyanyiqi"/>
            <p:cNvPicPr/>
            <p:nvPr/>
          </p:nvPicPr>
          <p:blipFill>
            <a:blip r:embed="rId1"/>
            <a:stretch/>
          </p:blipFill>
          <p:spPr>
            <a:xfrm>
              <a:off x="152280" y="0"/>
              <a:ext cx="93348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 Box 1029"/>
          <p:cNvSpPr/>
          <p:nvPr/>
        </p:nvSpPr>
        <p:spPr>
          <a:xfrm>
            <a:off x="380988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蔗糖中加入浓硫酸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4" name="Picture 1043" descr=""/>
          <p:cNvPicPr/>
          <p:nvPr/>
        </p:nvPicPr>
        <p:blipFill>
          <a:blip r:embed="rId2"/>
          <a:stretch/>
        </p:blipFill>
        <p:spPr>
          <a:xfrm>
            <a:off x="34920" y="1628640"/>
            <a:ext cx="9072720" cy="414504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044"/>
          <p:cNvSpPr/>
          <p:nvPr/>
        </p:nvSpPr>
        <p:spPr>
          <a:xfrm>
            <a:off x="7993080" y="616572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7301"/>
                </a:moveTo>
                <a:lnTo>
                  <a:pt x="12110" y="7301"/>
                </a:lnTo>
                <a:lnTo>
                  <a:pt x="12493" y="7667"/>
                </a:lnTo>
                <a:lnTo>
                  <a:pt x="21701" y="7667"/>
                </a:lnTo>
                <a:lnTo>
                  <a:pt x="22258" y="8224"/>
                </a:lnTo>
                <a:lnTo>
                  <a:pt x="22258" y="8772"/>
                </a:lnTo>
                <a:lnTo>
                  <a:pt x="24103" y="8772"/>
                </a:lnTo>
                <a:lnTo>
                  <a:pt x="24469" y="8224"/>
                </a:lnTo>
                <a:lnTo>
                  <a:pt x="25209" y="8224"/>
                </a:lnTo>
                <a:lnTo>
                  <a:pt x="25209" y="13376"/>
                </a:lnTo>
                <a:lnTo>
                  <a:pt x="24469" y="13376"/>
                </a:lnTo>
                <a:lnTo>
                  <a:pt x="24103" y="12828"/>
                </a:lnTo>
                <a:lnTo>
                  <a:pt x="22258" y="12828"/>
                </a:lnTo>
                <a:lnTo>
                  <a:pt x="22258" y="14107"/>
                </a:lnTo>
                <a:lnTo>
                  <a:pt x="12675" y="14107"/>
                </a:lnTo>
                <a:lnTo>
                  <a:pt x="12675" y="9877"/>
                </a:lnTo>
                <a:lnTo>
                  <a:pt x="12493" y="9877"/>
                </a:lnTo>
                <a:lnTo>
                  <a:pt x="12110" y="10243"/>
                </a:lnTo>
                <a:lnTo>
                  <a:pt x="11196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52280" y="0"/>
            <a:ext cx="3886200" cy="1066680"/>
            <a:chOff x="152280" y="0"/>
            <a:chExt cx="3886200" cy="1066680"/>
          </a:xfrm>
        </p:grpSpPr>
        <p:sp>
          <p:nvSpPr>
            <p:cNvPr id="277" name="Rectangle 3"/>
            <p:cNvSpPr/>
            <p:nvPr/>
          </p:nvSpPr>
          <p:spPr>
            <a:xfrm>
              <a:off x="1143000" y="380880"/>
              <a:ext cx="2895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演 示 实 验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78" name="Picture 4" descr="shiyanyiqi"/>
            <p:cNvPicPr/>
            <p:nvPr/>
          </p:nvPicPr>
          <p:blipFill>
            <a:blip r:embed="rId1"/>
            <a:stretch/>
          </p:blipFill>
          <p:spPr>
            <a:xfrm>
              <a:off x="152280" y="0"/>
              <a:ext cx="93348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5"/>
          <p:cNvSpPr/>
          <p:nvPr/>
        </p:nvSpPr>
        <p:spPr>
          <a:xfrm>
            <a:off x="380988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蔗糖中加入浓硫酸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895480" y="11430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实验现象：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95280" y="1752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蔗糖变黑；体积膨胀；放出大量热；产生有酸味、刺激性气味的气体。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612720" y="3967200"/>
            <a:ext cx="2590920" cy="685800"/>
            <a:chOff x="612720" y="3967200"/>
            <a:chExt cx="2590920" cy="685800"/>
          </a:xfrm>
        </p:grpSpPr>
        <p:sp>
          <p:nvSpPr>
            <p:cNvPr id="283" name="Rectangle 9"/>
            <p:cNvSpPr/>
            <p:nvPr/>
          </p:nvSpPr>
          <p:spPr>
            <a:xfrm>
              <a:off x="765000" y="39672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想想看：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84" name="Picture 10" descr="bulb01"/>
            <p:cNvPicPr/>
            <p:nvPr/>
          </p:nvPicPr>
          <p:blipFill>
            <a:blip r:embed="rId2"/>
            <a:stretch/>
          </p:blipFill>
          <p:spPr>
            <a:xfrm>
              <a:off x="612720" y="3967200"/>
              <a:ext cx="3240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11"/>
          <p:cNvGrpSpPr/>
          <p:nvPr/>
        </p:nvGrpSpPr>
        <p:grpSpPr>
          <a:xfrm>
            <a:off x="600120" y="5084640"/>
            <a:ext cx="9372600" cy="703440"/>
            <a:chOff x="600120" y="5084640"/>
            <a:chExt cx="9372600" cy="703440"/>
          </a:xfrm>
        </p:grpSpPr>
        <p:sp>
          <p:nvSpPr>
            <p:cNvPr id="286" name="Text Box 12"/>
            <p:cNvSpPr/>
            <p:nvPr/>
          </p:nvSpPr>
          <p:spPr>
            <a:xfrm>
              <a:off x="828720" y="508464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反应中生成的黑色物质是什么？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87" name="Picture 13" descr="nfpa"/>
            <p:cNvPicPr/>
            <p:nvPr/>
          </p:nvPicPr>
          <p:blipFill>
            <a:blip r:embed="rId3"/>
            <a:stretch/>
          </p:blipFill>
          <p:spPr>
            <a:xfrm>
              <a:off x="600120" y="5313240"/>
              <a:ext cx="27468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50920" y="1890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脱水性：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755640" y="3606840"/>
            <a:ext cx="7620120" cy="1479960"/>
            <a:chOff x="755640" y="3606840"/>
            <a:chExt cx="7620120" cy="1479960"/>
          </a:xfrm>
        </p:grpSpPr>
        <p:sp>
          <p:nvSpPr>
            <p:cNvPr id="290" name="Text Box 4"/>
            <p:cNvSpPr/>
            <p:nvPr/>
          </p:nvSpPr>
          <p:spPr>
            <a:xfrm>
              <a:off x="755640" y="3835440"/>
              <a:ext cx="2590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C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1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1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3246480" y="4292640"/>
              <a:ext cx="1776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Text Box 6"/>
            <p:cNvSpPr/>
            <p:nvPr/>
          </p:nvSpPr>
          <p:spPr>
            <a:xfrm>
              <a:off x="3193920" y="360684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浓硫酸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5022720" y="3911760"/>
              <a:ext cx="3353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2C + 11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O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984240" y="45054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蔗糖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)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2411280" y="998640"/>
            <a:ext cx="2286000" cy="703440"/>
            <a:chOff x="2411280" y="998640"/>
            <a:chExt cx="2286000" cy="703440"/>
          </a:xfrm>
        </p:grpSpPr>
        <p:sp>
          <p:nvSpPr>
            <p:cNvPr id="296" name="Text Box 10"/>
            <p:cNvSpPr/>
            <p:nvPr/>
          </p:nvSpPr>
          <p:spPr>
            <a:xfrm>
              <a:off x="2487600" y="99864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浓硫酸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2411280" y="1624320"/>
              <a:ext cx="1981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-181080" y="1185840"/>
            <a:ext cx="4572000" cy="1114560"/>
            <a:chOff x="-181080" y="1185840"/>
            <a:chExt cx="4572000" cy="1114560"/>
          </a:xfrm>
        </p:grpSpPr>
        <p:sp>
          <p:nvSpPr>
            <p:cNvPr id="299" name="Text Box 13"/>
            <p:cNvSpPr/>
            <p:nvPr/>
          </p:nvSpPr>
          <p:spPr>
            <a:xfrm>
              <a:off x="657360" y="1185840"/>
              <a:ext cx="373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有机物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-181080" y="171900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（含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C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、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H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、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O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等）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1" name="Text Box 15"/>
          <p:cNvSpPr/>
          <p:nvPr/>
        </p:nvSpPr>
        <p:spPr>
          <a:xfrm>
            <a:off x="4406760" y="1066680"/>
            <a:ext cx="2829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组成比脱去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2" name="Group 16"/>
          <p:cNvGrpSpPr/>
          <p:nvPr/>
        </p:nvGrpSpPr>
        <p:grpSpPr>
          <a:xfrm>
            <a:off x="5181480" y="2058840"/>
            <a:ext cx="2209680" cy="1084680"/>
            <a:chOff x="5181480" y="2058840"/>
            <a:chExt cx="2209680" cy="1084680"/>
          </a:xfrm>
        </p:grpSpPr>
        <p:sp>
          <p:nvSpPr>
            <p:cNvPr id="303" name="Line 17"/>
            <p:cNvSpPr/>
            <p:nvPr/>
          </p:nvSpPr>
          <p:spPr>
            <a:xfrm>
              <a:off x="5790960" y="2058840"/>
              <a:ext cx="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5181480" y="24400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脱水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Text Box 20"/>
          <p:cNvSpPr/>
          <p:nvPr/>
        </p:nvSpPr>
        <p:spPr>
          <a:xfrm>
            <a:off x="8004240" y="1268280"/>
            <a:ext cx="96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炭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7242120" y="1628640"/>
            <a:ext cx="785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179280" y="31258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能使纸屑、棉花、锯末、蔗糖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水化合物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炭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化。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2052720" y="52149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能使一些化合物“失水”变成新物质。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9" name="Group 29"/>
          <p:cNvGrpSpPr/>
          <p:nvPr/>
        </p:nvGrpSpPr>
        <p:grpSpPr>
          <a:xfrm>
            <a:off x="611280" y="5834160"/>
            <a:ext cx="8316720" cy="1047240"/>
            <a:chOff x="611280" y="5834160"/>
            <a:chExt cx="8316720" cy="1047240"/>
          </a:xfrm>
        </p:grpSpPr>
        <p:sp>
          <p:nvSpPr>
            <p:cNvPr id="310" name="Text Box 25"/>
            <p:cNvSpPr/>
            <p:nvPr/>
          </p:nvSpPr>
          <p:spPr>
            <a:xfrm>
              <a:off x="611280" y="5983560"/>
              <a:ext cx="831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H                        C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=C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+  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916000" y="6288120"/>
              <a:ext cx="22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Text Box 27"/>
            <p:cNvSpPr/>
            <p:nvPr/>
          </p:nvSpPr>
          <p:spPr>
            <a:xfrm>
              <a:off x="3378240" y="5834160"/>
              <a:ext cx="1482120" cy="10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浓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170℃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V="1">
              <a:off x="7308720" y="6028920"/>
              <a:ext cx="0" cy="381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4" name="Text Box 30"/>
          <p:cNvSpPr/>
          <p:nvPr/>
        </p:nvSpPr>
        <p:spPr>
          <a:xfrm>
            <a:off x="2808360" y="25704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按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组成比脱去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性质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184464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吸收空气等其它物质中的游离水分子，如浓硫酸做气体干燥剂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吸水性与脱水性的区别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8" name="Picture 5" descr="nfpa"/>
          <p:cNvPicPr/>
          <p:nvPr/>
        </p:nvPicPr>
        <p:blipFill>
          <a:blip r:embed="rId1"/>
          <a:stretch/>
        </p:blipFill>
        <p:spPr>
          <a:xfrm>
            <a:off x="179280" y="1916280"/>
            <a:ext cx="503280" cy="5029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6"/>
          <p:cNvGrpSpPr/>
          <p:nvPr/>
        </p:nvGrpSpPr>
        <p:grpSpPr>
          <a:xfrm>
            <a:off x="250920" y="3940200"/>
            <a:ext cx="8458200" cy="1504800"/>
            <a:chOff x="250920" y="3940200"/>
            <a:chExt cx="8458200" cy="1504800"/>
          </a:xfrm>
        </p:grpSpPr>
        <p:sp>
          <p:nvSpPr>
            <p:cNvPr id="320" name="Rectangle 7"/>
            <p:cNvSpPr/>
            <p:nvPr/>
          </p:nvSpPr>
          <p:spPr>
            <a:xfrm>
              <a:off x="250920" y="4378320"/>
              <a:ext cx="8458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CuSO</a:t>
              </a:r>
              <a:r>
                <a:rPr b="1" lang="en-US" sz="3600" spc="-1" strike="noStrike" baseline="-30000">
                  <a:solidFill>
                    <a:srgbClr val="ffff00"/>
                  </a:solidFill>
                  <a:latin typeface="Times New Roman"/>
                  <a:ea typeface="隶书"/>
                </a:rPr>
                <a:t>4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·5H</a:t>
              </a:r>
              <a:r>
                <a:rPr b="1" lang="en-US" sz="3600" spc="-1" strike="noStrike" baseline="-30000">
                  <a:solidFill>
                    <a:srgbClr val="ffff00"/>
                  </a:solidFill>
                  <a:latin typeface="Times New Roman"/>
                  <a:ea typeface="隶书"/>
                </a:rPr>
                <a:t>2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O                         CuSO</a:t>
              </a:r>
              <a:r>
                <a:rPr b="1" lang="en-US" sz="3600" spc="-1" strike="noStrike" baseline="-30000">
                  <a:solidFill>
                    <a:srgbClr val="ffff00"/>
                  </a:solidFill>
                  <a:latin typeface="Times New Roman"/>
                  <a:ea typeface="隶书"/>
                </a:rPr>
                <a:t>4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054960" y="3940200"/>
              <a:ext cx="23079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H</a:t>
              </a:r>
              <a:r>
                <a:rPr b="1" lang="en-US" sz="3200" spc="-1" strike="noStrike" baseline="-30000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SO</a:t>
              </a:r>
              <a:r>
                <a:rPr b="1" lang="en-US" sz="3200" spc="-1" strike="noStrike" baseline="-30000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（浓）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2994120" y="4606920"/>
              <a:ext cx="2514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3" name="Group 10"/>
          <p:cNvGrpSpPr/>
          <p:nvPr/>
        </p:nvGrpSpPr>
        <p:grpSpPr>
          <a:xfrm>
            <a:off x="0" y="3219480"/>
            <a:ext cx="9144000" cy="581400"/>
            <a:chOff x="0" y="3219480"/>
            <a:chExt cx="9144000" cy="581400"/>
          </a:xfrm>
        </p:grpSpPr>
        <p:pic>
          <p:nvPicPr>
            <p:cNvPr id="324" name="Picture 11" descr="nfpa"/>
            <p:cNvPicPr/>
            <p:nvPr/>
          </p:nvPicPr>
          <p:blipFill>
            <a:blip r:embed="rId2"/>
            <a:stretch/>
          </p:blipFill>
          <p:spPr>
            <a:xfrm>
              <a:off x="215640" y="3284280"/>
              <a:ext cx="5032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Rectangle 12"/>
            <p:cNvSpPr/>
            <p:nvPr/>
          </p:nvSpPr>
          <p:spPr>
            <a:xfrm>
              <a:off x="0" y="321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夺取化合物中结晶水分子，如使蓝矾变白。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6" name="Text Box 3"/>
          <p:cNvSpPr/>
          <p:nvPr/>
        </p:nvSpPr>
        <p:spPr>
          <a:xfrm>
            <a:off x="250920" y="981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吸水性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250920" y="508464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脱水性：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34920" y="587700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脱水非水，如有机物的炭化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9" name="Picture 16" descr="nfpa"/>
          <p:cNvPicPr/>
          <p:nvPr/>
        </p:nvPicPr>
        <p:blipFill>
          <a:blip r:embed="rId3"/>
          <a:stretch/>
        </p:blipFill>
        <p:spPr>
          <a:xfrm>
            <a:off x="179280" y="5877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330" name="矩形 1"/>
          <p:cNvSpPr/>
          <p:nvPr/>
        </p:nvSpPr>
        <p:spPr>
          <a:xfrm>
            <a:off x="7255800" y="4292640"/>
            <a:ext cx="16268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+ 5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539640" y="6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强氧化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2" name="Group 9"/>
          <p:cNvGrpSpPr/>
          <p:nvPr/>
        </p:nvGrpSpPr>
        <p:grpSpPr>
          <a:xfrm>
            <a:off x="468360" y="3749760"/>
            <a:ext cx="8353440" cy="1556280"/>
            <a:chOff x="468360" y="3749760"/>
            <a:chExt cx="8353440" cy="1556280"/>
          </a:xfrm>
        </p:grpSpPr>
        <p:grpSp>
          <p:nvGrpSpPr>
            <p:cNvPr id="333" name="Group 10"/>
            <p:cNvGrpSpPr/>
            <p:nvPr/>
          </p:nvGrpSpPr>
          <p:grpSpPr>
            <a:xfrm>
              <a:off x="468360" y="3749760"/>
              <a:ext cx="8353440" cy="1556280"/>
              <a:chOff x="468360" y="3749760"/>
              <a:chExt cx="8353440" cy="1556280"/>
            </a:xfrm>
          </p:grpSpPr>
          <p:sp>
            <p:nvSpPr>
              <p:cNvPr id="334" name="Text Box 11"/>
              <p:cNvSpPr/>
              <p:nvPr/>
            </p:nvSpPr>
            <p:spPr>
              <a:xfrm>
                <a:off x="468360" y="4587840"/>
                <a:ext cx="83534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C  +2H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O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</a:rPr>
                  <a:t>（浓）  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CO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Arial"/>
                  </a:rPr>
                  <a:t>2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+2H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O+2SO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5" name="Line 12"/>
              <p:cNvSpPr/>
              <p:nvPr/>
            </p:nvSpPr>
            <p:spPr>
              <a:xfrm flipV="1">
                <a:off x="8748720" y="4587840"/>
                <a:ext cx="0" cy="533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6" name="Line 13"/>
              <p:cNvSpPr/>
              <p:nvPr/>
            </p:nvSpPr>
            <p:spPr>
              <a:xfrm>
                <a:off x="4184640" y="4829040"/>
                <a:ext cx="67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7" name="Line 14"/>
              <p:cNvSpPr/>
              <p:nvPr/>
            </p:nvSpPr>
            <p:spPr>
              <a:xfrm>
                <a:off x="4184640" y="4973400"/>
                <a:ext cx="67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8" name="AutoShape 15"/>
              <p:cNvSpPr/>
              <p:nvPr/>
            </p:nvSpPr>
            <p:spPr>
              <a:xfrm>
                <a:off x="4343400" y="4435560"/>
                <a:ext cx="3016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9" name="Line 16"/>
              <p:cNvSpPr/>
              <p:nvPr/>
            </p:nvSpPr>
            <p:spPr>
              <a:xfrm flipV="1">
                <a:off x="693720" y="4130640"/>
                <a:ext cx="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0" name="Line 17"/>
              <p:cNvSpPr/>
              <p:nvPr/>
            </p:nvSpPr>
            <p:spPr>
              <a:xfrm>
                <a:off x="2274840" y="4130640"/>
                <a:ext cx="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1" name="Line 18"/>
              <p:cNvSpPr/>
              <p:nvPr/>
            </p:nvSpPr>
            <p:spPr>
              <a:xfrm>
                <a:off x="693720" y="4130640"/>
                <a:ext cx="1581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2" name="Text Box 19"/>
              <p:cNvSpPr/>
              <p:nvPr/>
            </p:nvSpPr>
            <p:spPr>
              <a:xfrm>
                <a:off x="1220760" y="3749760"/>
                <a:ext cx="90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e</a:t>
                </a:r>
                <a:r>
                  <a:rPr b="1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Line 20"/>
            <p:cNvSpPr/>
            <p:nvPr/>
          </p:nvSpPr>
          <p:spPr>
            <a:xfrm flipV="1">
              <a:off x="5797440" y="4576680"/>
              <a:ext cx="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4" name="Text Box 21"/>
          <p:cNvSpPr/>
          <p:nvPr/>
        </p:nvSpPr>
        <p:spPr>
          <a:xfrm>
            <a:off x="395280" y="19162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与非金属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654920" y="2924280"/>
            <a:ext cx="60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加热时，浓硫酸能与某些非金属反应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等）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574560" y="260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产物为何体积膨胀？产生的有刺激性气味的气体是什么气体？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1862280" y="5799240"/>
            <a:ext cx="204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8" name="Picture 16" descr="nfpa"/>
          <p:cNvPicPr/>
          <p:nvPr/>
        </p:nvPicPr>
        <p:blipFill>
          <a:blip r:embed="rId1"/>
          <a:stretch/>
        </p:blipFill>
        <p:spPr>
          <a:xfrm>
            <a:off x="231840" y="476280"/>
            <a:ext cx="307800" cy="27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493560" y="76320"/>
            <a:ext cx="3886200" cy="1066680"/>
            <a:chOff x="493560" y="76320"/>
            <a:chExt cx="3886200" cy="1066680"/>
          </a:xfrm>
        </p:grpSpPr>
        <p:sp>
          <p:nvSpPr>
            <p:cNvPr id="350" name="Rectangle 3"/>
            <p:cNvSpPr/>
            <p:nvPr/>
          </p:nvSpPr>
          <p:spPr>
            <a:xfrm>
              <a:off x="1484280" y="457200"/>
              <a:ext cx="2895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演 示 实 验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51" name="Picture 4" descr="shiyanyiqi"/>
            <p:cNvPicPr/>
            <p:nvPr/>
          </p:nvPicPr>
          <p:blipFill>
            <a:blip r:embed="rId1"/>
            <a:stretch/>
          </p:blipFill>
          <p:spPr>
            <a:xfrm>
              <a:off x="493560" y="76320"/>
              <a:ext cx="93348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5"/>
          <p:cNvSpPr/>
          <p:nvPr/>
        </p:nvSpPr>
        <p:spPr>
          <a:xfrm>
            <a:off x="4114800" y="423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浓硫酸与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Cu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3" name="Picture 64" descr=""/>
          <p:cNvPicPr/>
          <p:nvPr/>
        </p:nvPicPr>
        <p:blipFill>
          <a:blip r:embed="rId2"/>
          <a:stretch/>
        </p:blipFill>
        <p:spPr>
          <a:xfrm>
            <a:off x="73080" y="1990800"/>
            <a:ext cx="9036000" cy="48229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65"/>
          <p:cNvSpPr/>
          <p:nvPr/>
        </p:nvSpPr>
        <p:spPr>
          <a:xfrm>
            <a:off x="2722320" y="1268280"/>
            <a:ext cx="38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课本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10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实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-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AutoShape 66"/>
          <p:cNvSpPr/>
          <p:nvPr/>
        </p:nvSpPr>
        <p:spPr>
          <a:xfrm>
            <a:off x="7993080" y="616572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7301"/>
                </a:moveTo>
                <a:lnTo>
                  <a:pt x="12110" y="7301"/>
                </a:lnTo>
                <a:lnTo>
                  <a:pt x="12493" y="7667"/>
                </a:lnTo>
                <a:lnTo>
                  <a:pt x="21701" y="7667"/>
                </a:lnTo>
                <a:lnTo>
                  <a:pt x="22258" y="8224"/>
                </a:lnTo>
                <a:lnTo>
                  <a:pt x="22258" y="8772"/>
                </a:lnTo>
                <a:lnTo>
                  <a:pt x="24103" y="8772"/>
                </a:lnTo>
                <a:lnTo>
                  <a:pt x="24469" y="8224"/>
                </a:lnTo>
                <a:lnTo>
                  <a:pt x="25209" y="8224"/>
                </a:lnTo>
                <a:lnTo>
                  <a:pt x="25209" y="13376"/>
                </a:lnTo>
                <a:lnTo>
                  <a:pt x="24469" y="13376"/>
                </a:lnTo>
                <a:lnTo>
                  <a:pt x="24103" y="12828"/>
                </a:lnTo>
                <a:lnTo>
                  <a:pt x="22258" y="12828"/>
                </a:lnTo>
                <a:lnTo>
                  <a:pt x="22258" y="14107"/>
                </a:lnTo>
                <a:lnTo>
                  <a:pt x="12675" y="14107"/>
                </a:lnTo>
                <a:lnTo>
                  <a:pt x="12675" y="9877"/>
                </a:lnTo>
                <a:lnTo>
                  <a:pt x="12493" y="9877"/>
                </a:lnTo>
                <a:lnTo>
                  <a:pt x="12110" y="10243"/>
                </a:lnTo>
                <a:lnTo>
                  <a:pt x="11196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内容占位符 2"/>
          <p:cNvSpPr/>
          <p:nvPr/>
        </p:nvSpPr>
        <p:spPr>
          <a:xfrm>
            <a:off x="3959280" y="476280"/>
            <a:ext cx="54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浓硫酸与铜反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改进实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5425920" y="1628640"/>
            <a:ext cx="3716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现象：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铜被溶解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气体不断冒出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品红溶液褪色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蕊溶液变红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应液稀释呈蓝色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内容占位符 2"/>
          <p:cNvSpPr/>
          <p:nvPr/>
        </p:nvSpPr>
        <p:spPr>
          <a:xfrm>
            <a:off x="351000" y="5013360"/>
            <a:ext cx="8542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结论：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氧化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成气体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9" name="Group 8"/>
          <p:cNvGrpSpPr/>
          <p:nvPr/>
        </p:nvGrpSpPr>
        <p:grpSpPr>
          <a:xfrm>
            <a:off x="179280" y="76320"/>
            <a:ext cx="3886200" cy="1066680"/>
            <a:chOff x="179280" y="76320"/>
            <a:chExt cx="3886200" cy="1066680"/>
          </a:xfrm>
        </p:grpSpPr>
        <p:sp>
          <p:nvSpPr>
            <p:cNvPr id="360" name="Rectangle 9"/>
            <p:cNvSpPr/>
            <p:nvPr/>
          </p:nvSpPr>
          <p:spPr>
            <a:xfrm>
              <a:off x="1170000" y="457200"/>
              <a:ext cx="2895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演 示 实 验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61" name="Picture 10" descr="shiyanyiqi"/>
            <p:cNvPicPr/>
            <p:nvPr/>
          </p:nvPicPr>
          <p:blipFill>
            <a:blip r:embed="rId1"/>
            <a:stretch/>
          </p:blipFill>
          <p:spPr>
            <a:xfrm>
              <a:off x="179280" y="76320"/>
              <a:ext cx="93348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Rectangle 12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63" name="Picture 32"/>
          <p:cNvGraphicFramePr/>
          <p:nvPr/>
        </p:nvGraphicFramePr>
        <p:xfrm>
          <a:off x="179280" y="1844640"/>
          <a:ext cx="5040360" cy="26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Picture 32" descr="学优高考网(www.gkstk.com),国内最领先的高考网站,每天发布最有价值的高考资料,累计帮助千万考生获得成功!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44640"/>
                    <a:ext cx="504036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-36360" y="208764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与金属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Line 7"/>
          <p:cNvSpPr/>
          <p:nvPr/>
        </p:nvSpPr>
        <p:spPr>
          <a:xfrm flipV="1">
            <a:off x="8847000" y="2438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内容占位符 2"/>
          <p:cNvSpPr/>
          <p:nvPr/>
        </p:nvSpPr>
        <p:spPr>
          <a:xfrm>
            <a:off x="260280" y="3168720"/>
            <a:ext cx="8469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Cu + 2H</a:t>
            </a:r>
            <a:r>
              <a:rPr b="1" lang="pt-BR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pt-BR" sz="3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浓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pt-BR" sz="36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△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CuSO</a:t>
            </a:r>
            <a:r>
              <a:rPr b="1" lang="pt-BR" sz="3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+ SO</a:t>
            </a:r>
            <a:r>
              <a:rPr b="1" lang="pt-BR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↑+ 2H</a:t>
            </a:r>
            <a:r>
              <a:rPr b="1" lang="pt-BR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9"/>
          <p:cNvGrpSpPr/>
          <p:nvPr/>
        </p:nvGrpSpPr>
        <p:grpSpPr>
          <a:xfrm>
            <a:off x="971640" y="1197000"/>
            <a:ext cx="2590200" cy="685800"/>
            <a:chOff x="971640" y="1197000"/>
            <a:chExt cx="2590200" cy="685800"/>
          </a:xfrm>
        </p:grpSpPr>
        <p:sp>
          <p:nvSpPr>
            <p:cNvPr id="369" name="Rectangle 10"/>
            <p:cNvSpPr/>
            <p:nvPr/>
          </p:nvSpPr>
          <p:spPr>
            <a:xfrm>
              <a:off x="1123560" y="1197000"/>
              <a:ext cx="2438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想想看：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70" name="Picture 11" descr="bulb01"/>
            <p:cNvPicPr/>
            <p:nvPr/>
          </p:nvPicPr>
          <p:blipFill>
            <a:blip r:embed="rId1"/>
            <a:stretch/>
          </p:blipFill>
          <p:spPr>
            <a:xfrm>
              <a:off x="971640" y="1197000"/>
              <a:ext cx="3236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12"/>
          <p:cNvGrpSpPr/>
          <p:nvPr/>
        </p:nvGrpSpPr>
        <p:grpSpPr>
          <a:xfrm>
            <a:off x="0" y="2421000"/>
            <a:ext cx="9144000" cy="703440"/>
            <a:chOff x="0" y="2421000"/>
            <a:chExt cx="9144000" cy="703440"/>
          </a:xfrm>
        </p:grpSpPr>
        <p:sp>
          <p:nvSpPr>
            <p:cNvPr id="372" name="Text Box 13"/>
            <p:cNvSpPr/>
            <p:nvPr/>
          </p:nvSpPr>
          <p:spPr>
            <a:xfrm>
              <a:off x="0" y="242100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稀硫酸是否具有氧化性？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73" name="Picture 14" descr="nfpa"/>
            <p:cNvPicPr/>
            <p:nvPr/>
          </p:nvPicPr>
          <p:blipFill>
            <a:blip r:embed="rId2"/>
            <a:stretch/>
          </p:blipFill>
          <p:spPr>
            <a:xfrm>
              <a:off x="228600" y="2649600"/>
              <a:ext cx="2746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Group 15"/>
          <p:cNvGrpSpPr/>
          <p:nvPr/>
        </p:nvGrpSpPr>
        <p:grpSpPr>
          <a:xfrm>
            <a:off x="179280" y="3716280"/>
            <a:ext cx="6671160" cy="703440"/>
            <a:chOff x="179280" y="3716280"/>
            <a:chExt cx="6671160" cy="703440"/>
          </a:xfrm>
        </p:grpSpPr>
        <p:pic>
          <p:nvPicPr>
            <p:cNvPr id="375" name="Picture 16" descr="nfpa"/>
            <p:cNvPicPr/>
            <p:nvPr/>
          </p:nvPicPr>
          <p:blipFill>
            <a:blip r:embed="rId3"/>
            <a:stretch/>
          </p:blipFill>
          <p:spPr>
            <a:xfrm>
              <a:off x="179280" y="397512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17"/>
            <p:cNvSpPr/>
            <p:nvPr/>
          </p:nvSpPr>
          <p:spPr>
            <a:xfrm>
              <a:off x="2097720" y="3716280"/>
              <a:ext cx="47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浓、稀硫酸的氧化性有什么不同？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3059280" y="3068640"/>
            <a:ext cx="316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硫 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979640" y="5083200"/>
            <a:ext cx="51847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(Sulfhuric Acid)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1763640" y="1484280"/>
            <a:ext cx="604836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四章 第四节 氨 硝酸 硫酸  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96" name="WordArt 8" descr="白色大理石"/>
          <p:cNvPicPr/>
          <p:nvPr/>
        </p:nvPicPr>
        <p:blipFill>
          <a:blip r:embed="rId3"/>
          <a:stretch/>
        </p:blipFill>
        <p:spPr>
          <a:xfrm>
            <a:off x="396720" y="512640"/>
            <a:ext cx="81979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60280" y="817560"/>
            <a:ext cx="899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稀硫酸的氧化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是指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+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的氧化性，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酸的通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之一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浓硫酸的氧化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是由分子中的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+6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价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引起的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2189160" y="4530600"/>
            <a:ext cx="48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浓硫酸的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氧化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比稀硫酸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强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!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143000" y="3808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浓硫酸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181480" y="4413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稀硫酸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066680" y="3048120"/>
            <a:ext cx="2057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4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4191120" y="3124080"/>
            <a:ext cx="4495680" cy="787320"/>
            <a:chOff x="4191120" y="3124080"/>
            <a:chExt cx="4495680" cy="787320"/>
          </a:xfrm>
        </p:grpSpPr>
        <p:sp>
          <p:nvSpPr>
            <p:cNvPr id="383" name="Text Box 6"/>
            <p:cNvSpPr/>
            <p:nvPr/>
          </p:nvSpPr>
          <p:spPr>
            <a:xfrm>
              <a:off x="4191120" y="3124080"/>
              <a:ext cx="4495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H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SO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= 2H</a:t>
              </a:r>
              <a:r>
                <a:rPr b="1" lang="en-US" sz="4000" spc="-1" strike="noStrike" baseline="30000">
                  <a:solidFill>
                    <a:srgbClr val="ffffff"/>
                  </a:solidFill>
                  <a:latin typeface="Times New Roman"/>
                  <a:ea typeface="隶书"/>
                </a:rPr>
                <a:t>+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+SO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7772400" y="31543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30000">
                  <a:solidFill>
                    <a:srgbClr val="ffffff"/>
                  </a:solidFill>
                  <a:latin typeface="Times New Roman"/>
                  <a:ea typeface="隶书"/>
                </a:rPr>
                <a:t>2-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334120" y="3809880"/>
            <a:ext cx="2438280" cy="992520"/>
            <a:chOff x="5334120" y="3809880"/>
            <a:chExt cx="2438280" cy="992520"/>
          </a:xfrm>
        </p:grpSpPr>
        <p:grpSp>
          <p:nvGrpSpPr>
            <p:cNvPr id="386" name="Group 9"/>
            <p:cNvGrpSpPr/>
            <p:nvPr/>
          </p:nvGrpSpPr>
          <p:grpSpPr>
            <a:xfrm>
              <a:off x="6019920" y="3809880"/>
              <a:ext cx="837720" cy="457200"/>
              <a:chOff x="6019920" y="3809880"/>
              <a:chExt cx="837720" cy="457200"/>
            </a:xfrm>
          </p:grpSpPr>
          <p:sp>
            <p:nvSpPr>
              <p:cNvPr id="387" name="Line 10"/>
              <p:cNvSpPr/>
              <p:nvPr/>
            </p:nvSpPr>
            <p:spPr>
              <a:xfrm>
                <a:off x="6019920" y="3809880"/>
                <a:ext cx="837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8" name="Line 11"/>
              <p:cNvSpPr/>
              <p:nvPr/>
            </p:nvSpPr>
            <p:spPr>
              <a:xfrm>
                <a:off x="6392160" y="3809880"/>
                <a:ext cx="0" cy="457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Text Box 12"/>
            <p:cNvSpPr/>
            <p:nvPr/>
          </p:nvSpPr>
          <p:spPr>
            <a:xfrm>
              <a:off x="5334120" y="409896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酸的通性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4011120" y="1111320"/>
            <a:ext cx="2618280" cy="2133360"/>
            <a:chOff x="4011120" y="1111320"/>
            <a:chExt cx="2618280" cy="2133360"/>
          </a:xfrm>
        </p:grpSpPr>
        <p:sp>
          <p:nvSpPr>
            <p:cNvPr id="391" name="Line 14"/>
            <p:cNvSpPr/>
            <p:nvPr/>
          </p:nvSpPr>
          <p:spPr>
            <a:xfrm>
              <a:off x="5943600" y="1111320"/>
              <a:ext cx="0" cy="2133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Text Box 15"/>
            <p:cNvSpPr/>
            <p:nvPr/>
          </p:nvSpPr>
          <p:spPr>
            <a:xfrm>
              <a:off x="4011120" y="1219320"/>
              <a:ext cx="26182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完全电离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762120" y="3809880"/>
            <a:ext cx="3276360" cy="976320"/>
            <a:chOff x="762120" y="3809880"/>
            <a:chExt cx="3276360" cy="976320"/>
          </a:xfrm>
        </p:grpSpPr>
        <p:grpSp>
          <p:nvGrpSpPr>
            <p:cNvPr id="394" name="Group 17"/>
            <p:cNvGrpSpPr/>
            <p:nvPr/>
          </p:nvGrpSpPr>
          <p:grpSpPr>
            <a:xfrm>
              <a:off x="1197000" y="3809880"/>
              <a:ext cx="1371240" cy="457200"/>
              <a:chOff x="1197000" y="3809880"/>
              <a:chExt cx="1371240" cy="457200"/>
            </a:xfrm>
          </p:grpSpPr>
          <p:sp>
            <p:nvSpPr>
              <p:cNvPr id="395" name="Line 18"/>
              <p:cNvSpPr/>
              <p:nvPr/>
            </p:nvSpPr>
            <p:spPr>
              <a:xfrm>
                <a:off x="1197000" y="3809880"/>
                <a:ext cx="13712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1893600" y="3809880"/>
                <a:ext cx="0" cy="457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Text Box 20"/>
            <p:cNvSpPr/>
            <p:nvPr/>
          </p:nvSpPr>
          <p:spPr>
            <a:xfrm>
              <a:off x="762120" y="4082760"/>
              <a:ext cx="32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自身特性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8" name="Group 21"/>
          <p:cNvGrpSpPr/>
          <p:nvPr/>
        </p:nvGrpSpPr>
        <p:grpSpPr>
          <a:xfrm>
            <a:off x="599040" y="914400"/>
            <a:ext cx="2039400" cy="2286000"/>
            <a:chOff x="599040" y="914400"/>
            <a:chExt cx="2039400" cy="2286000"/>
          </a:xfrm>
        </p:grpSpPr>
        <p:sp>
          <p:nvSpPr>
            <p:cNvPr id="399" name="Line 22"/>
            <p:cNvSpPr/>
            <p:nvPr/>
          </p:nvSpPr>
          <p:spPr>
            <a:xfrm>
              <a:off x="1828800" y="99072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00" name="Group 23"/>
            <p:cNvGrpSpPr/>
            <p:nvPr/>
          </p:nvGrpSpPr>
          <p:grpSpPr>
            <a:xfrm>
              <a:off x="599040" y="914400"/>
              <a:ext cx="2039400" cy="2286000"/>
              <a:chOff x="599040" y="914400"/>
              <a:chExt cx="2039400" cy="2286000"/>
            </a:xfrm>
          </p:grpSpPr>
          <p:sp>
            <p:nvSpPr>
              <p:cNvPr id="401" name="Text Box 24"/>
              <p:cNvSpPr/>
              <p:nvPr/>
            </p:nvSpPr>
            <p:spPr>
              <a:xfrm>
                <a:off x="599040" y="968400"/>
                <a:ext cx="1277640" cy="21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以分子态</a:t>
                </a: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2" name="Text Box 25"/>
              <p:cNvSpPr/>
              <p:nvPr/>
            </p:nvSpPr>
            <p:spPr>
              <a:xfrm>
                <a:off x="1360800" y="990720"/>
                <a:ext cx="1277640" cy="22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存在为主</a:t>
                </a:r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3" name="Line 26"/>
              <p:cNvSpPr/>
              <p:nvPr/>
            </p:nvSpPr>
            <p:spPr>
              <a:xfrm>
                <a:off x="1828800" y="914400"/>
                <a:ext cx="0" cy="2133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Text Box 27"/>
          <p:cNvSpPr/>
          <p:nvPr/>
        </p:nvSpPr>
        <p:spPr>
          <a:xfrm>
            <a:off x="2388960" y="5410080"/>
            <a:ext cx="41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量 变 引 起 质 变 ！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5" name="Group 28"/>
          <p:cNvGrpSpPr/>
          <p:nvPr/>
        </p:nvGrpSpPr>
        <p:grpSpPr>
          <a:xfrm>
            <a:off x="2895480" y="76320"/>
            <a:ext cx="2210040" cy="1404360"/>
            <a:chOff x="2895480" y="76320"/>
            <a:chExt cx="2210040" cy="1404360"/>
          </a:xfrm>
        </p:grpSpPr>
        <p:sp>
          <p:nvSpPr>
            <p:cNvPr id="406" name="Line 29"/>
            <p:cNvSpPr/>
            <p:nvPr/>
          </p:nvSpPr>
          <p:spPr>
            <a:xfrm>
              <a:off x="2895480" y="762120"/>
              <a:ext cx="2210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Text Box 30"/>
            <p:cNvSpPr/>
            <p:nvPr/>
          </p:nvSpPr>
          <p:spPr>
            <a:xfrm>
              <a:off x="3505320" y="763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稀释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3418560" y="838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浓度减小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523880" y="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浓硫酸与金属反应的规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0" y="1371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加热时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36232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与绝大多数金属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0" y="66996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不产生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浓硫酸被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2286000" y="1981080"/>
            <a:ext cx="6858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与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活泼金属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Zn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0" y="1981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常温下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3809880" y="310824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发生钝化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4343400" y="2590920"/>
            <a:ext cx="2286000" cy="839880"/>
            <a:chOff x="4343400" y="2590920"/>
            <a:chExt cx="2286000" cy="839880"/>
          </a:xfrm>
        </p:grpSpPr>
        <p:sp>
          <p:nvSpPr>
            <p:cNvPr id="417" name="Text Box 10"/>
            <p:cNvSpPr/>
            <p:nvPr/>
          </p:nvSpPr>
          <p:spPr>
            <a:xfrm>
              <a:off x="4343400" y="27273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Al  Fe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5086440" y="2590920"/>
              <a:ext cx="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19" name="Group 12"/>
          <p:cNvGrpSpPr/>
          <p:nvPr/>
        </p:nvGrpSpPr>
        <p:grpSpPr>
          <a:xfrm>
            <a:off x="4876920" y="3718080"/>
            <a:ext cx="1143000" cy="380520"/>
            <a:chOff x="4876920" y="3718080"/>
            <a:chExt cx="1143000" cy="380520"/>
          </a:xfrm>
        </p:grpSpPr>
        <p:sp>
          <p:nvSpPr>
            <p:cNvPr id="420" name="Line 13"/>
            <p:cNvSpPr/>
            <p:nvPr/>
          </p:nvSpPr>
          <p:spPr>
            <a:xfrm>
              <a:off x="4876920" y="371808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Line 14"/>
            <p:cNvSpPr/>
            <p:nvPr/>
          </p:nvSpPr>
          <p:spPr>
            <a:xfrm>
              <a:off x="5410080" y="3731040"/>
              <a:ext cx="0" cy="367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2" name="Text Box 15"/>
          <p:cNvSpPr/>
          <p:nvPr/>
        </p:nvSpPr>
        <p:spPr>
          <a:xfrm>
            <a:off x="1187280" y="3870360"/>
            <a:ext cx="79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表面生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2514600" y="455616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与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硫酸接触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0" y="44370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钝化条件：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tangle 24"/>
          <p:cNvSpPr/>
          <p:nvPr/>
        </p:nvSpPr>
        <p:spPr>
          <a:xfrm>
            <a:off x="2451960" y="60948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Rectangle 25"/>
          <p:cNvSpPr/>
          <p:nvPr/>
        </p:nvSpPr>
        <p:spPr>
          <a:xfrm>
            <a:off x="5538960" y="609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还原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Rectangle 26"/>
          <p:cNvSpPr/>
          <p:nvPr/>
        </p:nvSpPr>
        <p:spPr>
          <a:xfrm>
            <a:off x="6948000" y="609480"/>
            <a:ext cx="1005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Rectangle 27"/>
          <p:cNvSpPr/>
          <p:nvPr/>
        </p:nvSpPr>
        <p:spPr>
          <a:xfrm>
            <a:off x="4776840" y="3886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致密的氧化物薄膜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Rectangle 28"/>
          <p:cNvSpPr/>
          <p:nvPr/>
        </p:nvSpPr>
        <p:spPr>
          <a:xfrm>
            <a:off x="475128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冷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tangle 29"/>
          <p:cNvSpPr/>
          <p:nvPr/>
        </p:nvSpPr>
        <p:spPr>
          <a:xfrm>
            <a:off x="5791320" y="4495680"/>
            <a:ext cx="6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浓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Text Box 30"/>
          <p:cNvSpPr/>
          <p:nvPr/>
        </p:nvSpPr>
        <p:spPr>
          <a:xfrm>
            <a:off x="902520" y="2708280"/>
            <a:ext cx="206712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钝化属于化学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化过程！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AutoShape 31"/>
          <p:cNvSpPr/>
          <p:nvPr/>
        </p:nvSpPr>
        <p:spPr>
          <a:xfrm>
            <a:off x="6516720" y="1989000"/>
            <a:ext cx="2448000" cy="1873440"/>
          </a:xfrm>
          <a:prstGeom prst="wedgeRoundRectCallout">
            <a:avLst>
              <a:gd name="adj1" fmla="val -80351"/>
              <a:gd name="adj2" fmla="val 9069"/>
              <a:gd name="adj3" fmla="val 16667"/>
            </a:avLst>
          </a:prstGeom>
          <a:solidFill>
            <a:srgbClr val="99f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并非所有的金属都能钝化！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3" name="Group 32"/>
          <p:cNvGrpSpPr/>
          <p:nvPr/>
        </p:nvGrpSpPr>
        <p:grpSpPr>
          <a:xfrm>
            <a:off x="228600" y="2708280"/>
            <a:ext cx="8664120" cy="4105080"/>
            <a:chOff x="228600" y="2708280"/>
            <a:chExt cx="8664120" cy="4105080"/>
          </a:xfrm>
        </p:grpSpPr>
        <p:pic>
          <p:nvPicPr>
            <p:cNvPr id="434" name="Picture 33" descr="tlcl-5"/>
            <p:cNvPicPr/>
            <p:nvPr/>
          </p:nvPicPr>
          <p:blipFill>
            <a:blip r:embed="rId2"/>
            <a:stretch/>
          </p:blipFill>
          <p:spPr>
            <a:xfrm>
              <a:off x="4560480" y="3722400"/>
              <a:ext cx="4332240" cy="309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5" name="Group 34"/>
            <p:cNvGrpSpPr/>
            <p:nvPr/>
          </p:nvGrpSpPr>
          <p:grpSpPr>
            <a:xfrm>
              <a:off x="228600" y="2708280"/>
              <a:ext cx="7658280" cy="668880"/>
              <a:chOff x="228600" y="2708280"/>
              <a:chExt cx="7658280" cy="668880"/>
            </a:xfrm>
          </p:grpSpPr>
          <p:sp>
            <p:nvSpPr>
              <p:cNvPr id="436" name="Text Box 35"/>
              <p:cNvSpPr/>
              <p:nvPr/>
            </p:nvSpPr>
            <p:spPr>
              <a:xfrm>
                <a:off x="228600" y="2708280"/>
                <a:ext cx="765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 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为何能用铝槽车盛放、运输浓硫酸？</a:t>
                </a:r>
                <a:endParaRPr b="1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pic>
            <p:nvPicPr>
              <p:cNvPr id="437" name="Picture 36" descr="nfpa"/>
              <p:cNvPicPr/>
              <p:nvPr/>
            </p:nvPicPr>
            <p:blipFill>
              <a:blip r:embed="rId3"/>
              <a:stretch/>
            </p:blipFill>
            <p:spPr>
              <a:xfrm>
                <a:off x="460440" y="3012120"/>
                <a:ext cx="278640" cy="36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split dir="out" orient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44360" y="69192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常温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浓硫酸能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HB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氧化为单质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539640" y="1413000"/>
            <a:ext cx="8209080" cy="2188440"/>
            <a:chOff x="539640" y="1413000"/>
            <a:chExt cx="8209080" cy="2188440"/>
          </a:xfrm>
        </p:grpSpPr>
        <p:sp>
          <p:nvSpPr>
            <p:cNvPr id="440" name="Text Box 5"/>
            <p:cNvSpPr/>
            <p:nvPr/>
          </p:nvSpPr>
          <p:spPr>
            <a:xfrm>
              <a:off x="539640" y="2205360"/>
              <a:ext cx="8209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=2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O+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  S  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843280" y="1844640"/>
              <a:ext cx="0" cy="36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843280" y="1845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Line 8"/>
            <p:cNvSpPr/>
            <p:nvPr/>
          </p:nvSpPr>
          <p:spPr>
            <a:xfrm>
              <a:off x="6443640" y="1845000"/>
              <a:ext cx="0" cy="431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>
              <a:off x="1258920" y="2708280"/>
              <a:ext cx="0" cy="36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Line 10"/>
            <p:cNvSpPr/>
            <p:nvPr/>
          </p:nvSpPr>
          <p:spPr>
            <a:xfrm>
              <a:off x="1258920" y="306864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Line 11"/>
            <p:cNvSpPr/>
            <p:nvPr/>
          </p:nvSpPr>
          <p:spPr>
            <a:xfrm flipV="1">
              <a:off x="4859280" y="2781360"/>
              <a:ext cx="0" cy="287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3635280" y="1413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失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234000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得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Line 14"/>
            <p:cNvSpPr/>
            <p:nvPr/>
          </p:nvSpPr>
          <p:spPr>
            <a:xfrm flipV="1">
              <a:off x="5580000" y="2276640"/>
              <a:ext cx="0" cy="504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>
              <a:off x="6877080" y="2276640"/>
              <a:ext cx="0" cy="431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51" name="Group 16"/>
          <p:cNvGrpSpPr/>
          <p:nvPr/>
        </p:nvGrpSpPr>
        <p:grpSpPr>
          <a:xfrm>
            <a:off x="468360" y="3284640"/>
            <a:ext cx="8136000" cy="1775520"/>
            <a:chOff x="468360" y="3284640"/>
            <a:chExt cx="8136000" cy="1775520"/>
          </a:xfrm>
        </p:grpSpPr>
        <p:sp>
          <p:nvSpPr>
            <p:cNvPr id="452" name="Text Box 17"/>
            <p:cNvSpPr/>
            <p:nvPr/>
          </p:nvSpPr>
          <p:spPr>
            <a:xfrm>
              <a:off x="468360" y="3887640"/>
              <a:ext cx="813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2H</a:t>
              </a: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I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=2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O+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  </a:t>
              </a: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Line 18"/>
            <p:cNvSpPr/>
            <p:nvPr/>
          </p:nvSpPr>
          <p:spPr>
            <a:xfrm flipV="1">
              <a:off x="2843280" y="3644640"/>
              <a:ext cx="0" cy="27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 flipV="1">
              <a:off x="2843280" y="3612600"/>
              <a:ext cx="3476520" cy="31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Line 20"/>
            <p:cNvSpPr/>
            <p:nvPr/>
          </p:nvSpPr>
          <p:spPr>
            <a:xfrm>
              <a:off x="6319800" y="3612960"/>
              <a:ext cx="0" cy="328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Line 21"/>
            <p:cNvSpPr/>
            <p:nvPr/>
          </p:nvSpPr>
          <p:spPr>
            <a:xfrm flipH="1">
              <a:off x="1187280" y="4471920"/>
              <a:ext cx="6480" cy="18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Line 22"/>
            <p:cNvSpPr/>
            <p:nvPr/>
          </p:nvSpPr>
          <p:spPr>
            <a:xfrm>
              <a:off x="1187280" y="4652640"/>
              <a:ext cx="356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Line 23"/>
            <p:cNvSpPr/>
            <p:nvPr/>
          </p:nvSpPr>
          <p:spPr>
            <a:xfrm flipH="1" flipV="1">
              <a:off x="4749840" y="4363560"/>
              <a:ext cx="38160" cy="288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Text Box 24"/>
            <p:cNvSpPr/>
            <p:nvPr/>
          </p:nvSpPr>
          <p:spPr>
            <a:xfrm>
              <a:off x="3537000" y="3284640"/>
              <a:ext cx="92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失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Text Box 25"/>
            <p:cNvSpPr/>
            <p:nvPr/>
          </p:nvSpPr>
          <p:spPr>
            <a:xfrm>
              <a:off x="2252520" y="460044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得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Line 26"/>
            <p:cNvSpPr/>
            <p:nvPr/>
          </p:nvSpPr>
          <p:spPr>
            <a:xfrm flipV="1">
              <a:off x="5464080" y="3941640"/>
              <a:ext cx="0" cy="383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62" name="Group 27"/>
          <p:cNvGrpSpPr/>
          <p:nvPr/>
        </p:nvGrpSpPr>
        <p:grpSpPr>
          <a:xfrm>
            <a:off x="395280" y="5084640"/>
            <a:ext cx="8748720" cy="1794960"/>
            <a:chOff x="395280" y="5084640"/>
            <a:chExt cx="8748720" cy="1794960"/>
          </a:xfrm>
        </p:grpSpPr>
        <p:sp>
          <p:nvSpPr>
            <p:cNvPr id="463" name="Text Box 28"/>
            <p:cNvSpPr/>
            <p:nvPr/>
          </p:nvSpPr>
          <p:spPr>
            <a:xfrm>
              <a:off x="395280" y="5695920"/>
              <a:ext cx="8748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2HBr=2H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O+SO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Arial"/>
                </a:rPr>
                <a:t>2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+Br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V="1">
              <a:off x="2849400" y="5418000"/>
              <a:ext cx="0" cy="27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>
              <a:off x="2843280" y="5443560"/>
              <a:ext cx="3457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>
              <a:off x="6300720" y="5443560"/>
              <a:ext cx="0" cy="333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Line 32"/>
            <p:cNvSpPr/>
            <p:nvPr/>
          </p:nvSpPr>
          <p:spPr>
            <a:xfrm flipV="1">
              <a:off x="1187280" y="6308280"/>
              <a:ext cx="0" cy="142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Line 33"/>
            <p:cNvSpPr/>
            <p:nvPr/>
          </p:nvSpPr>
          <p:spPr>
            <a:xfrm>
              <a:off x="1187280" y="6451560"/>
              <a:ext cx="3745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Line 34"/>
            <p:cNvSpPr/>
            <p:nvPr/>
          </p:nvSpPr>
          <p:spPr>
            <a:xfrm flipV="1">
              <a:off x="4932360" y="6164280"/>
              <a:ext cx="0" cy="287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Text Box 35"/>
            <p:cNvSpPr/>
            <p:nvPr/>
          </p:nvSpPr>
          <p:spPr>
            <a:xfrm>
              <a:off x="3693960" y="5084640"/>
              <a:ext cx="9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失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Text Box 36"/>
            <p:cNvSpPr/>
            <p:nvPr/>
          </p:nvSpPr>
          <p:spPr>
            <a:xfrm>
              <a:off x="2314440" y="6419880"/>
              <a:ext cx="99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得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Line 37"/>
            <p:cNvSpPr/>
            <p:nvPr/>
          </p:nvSpPr>
          <p:spPr>
            <a:xfrm flipV="1">
              <a:off x="5767560" y="5751000"/>
              <a:ext cx="0" cy="389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3" name="Text Box 39"/>
          <p:cNvSpPr/>
          <p:nvPr/>
        </p:nvSpPr>
        <p:spPr>
          <a:xfrm>
            <a:off x="395280" y="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与还原性化合物反应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990720" y="83664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浓硫酸的特性小结：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17720" y="22766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吸水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017720" y="3357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脱水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43657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强氧化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图 4-30 硫酸的用途"/>
          <p:cNvPicPr/>
          <p:nvPr/>
        </p:nvPicPr>
        <p:blipFill>
          <a:blip r:embed="rId1"/>
          <a:stretch/>
        </p:blipFill>
        <p:spPr>
          <a:xfrm>
            <a:off x="533520" y="2057400"/>
            <a:ext cx="7924680" cy="42782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533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四、硫酸的用途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五、常见的硫酸盐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73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石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熟石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[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]             2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+3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重晶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唯一无毒的钡盐，“钡餐”；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1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我国盛产芒硝，“缓泻剂”；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g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7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“泻盐”；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明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净水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Al(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1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 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·2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3564000" y="2349360"/>
            <a:ext cx="93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3564000" y="2276640"/>
            <a:ext cx="93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3924360" y="2060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5" name="Picture 7" descr="nfpa"/>
          <p:cNvPicPr/>
          <p:nvPr/>
        </p:nvPicPr>
        <p:blipFill>
          <a:blip r:embed="rId1"/>
          <a:stretch/>
        </p:blipFill>
        <p:spPr>
          <a:xfrm>
            <a:off x="120600" y="1498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nfpa"/>
          <p:cNvPicPr/>
          <p:nvPr/>
        </p:nvPicPr>
        <p:blipFill>
          <a:blip r:embed="rId2"/>
          <a:stretch/>
        </p:blipFill>
        <p:spPr>
          <a:xfrm>
            <a:off x="120600" y="278136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nfpa"/>
          <p:cNvPicPr/>
          <p:nvPr/>
        </p:nvPicPr>
        <p:blipFill>
          <a:blip r:embed="rId3"/>
          <a:stretch/>
        </p:blipFill>
        <p:spPr>
          <a:xfrm>
            <a:off x="108000" y="33703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nfpa"/>
          <p:cNvPicPr/>
          <p:nvPr/>
        </p:nvPicPr>
        <p:blipFill>
          <a:blip r:embed="rId4"/>
          <a:stretch/>
        </p:blipFill>
        <p:spPr>
          <a:xfrm>
            <a:off x="120600" y="400536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nfpa"/>
          <p:cNvPicPr/>
          <p:nvPr/>
        </p:nvPicPr>
        <p:blipFill>
          <a:blip r:embed="rId5"/>
          <a:stretch/>
        </p:blipFill>
        <p:spPr>
          <a:xfrm>
            <a:off x="120600" y="46530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1840" y="1282320"/>
            <a:ext cx="87138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列现象反映了硫酸的哪些主要性质：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浓硫酸滴在木条上，过一会儿，木条变黑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敞口放置浓硫酸时，质量增加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锌粒投入稀硫酸中，有气泡产生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把铜片放入浓硫酸里加热，有气体产生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利用浓硫酸和食盐固体反应可制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C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气体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6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浓硫酸不能用来干燥硫化氢气体。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7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利用硫化亚铁跟稀硫酸反应可制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气体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395280" y="53625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脱水性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吸水性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酸性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酸性和强氧化性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挥发性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6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氧化性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7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酸性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53964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ff"/>
                </a:solidFill>
                <a:latin typeface="Times New Roman"/>
              </a:rPr>
              <a:t>练习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mL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mol/L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的浓硫酸中，加入过量的铜片，被还原的硫酸的物质的量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8mol           B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、大于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8mol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.9mol           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、小于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.9m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6595560" y="486900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39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ff"/>
                </a:solidFill>
                <a:latin typeface="Times New Roman"/>
              </a:rPr>
              <a:t>练习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6"/>
          <p:cNvSpPr/>
          <p:nvPr/>
        </p:nvSpPr>
        <p:spPr>
          <a:xfrm>
            <a:off x="1103760" y="1341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思考并讨论：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324000" y="2781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请设计实验方案，验证碳和浓硫酸反应的产物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3"/>
          <p:cNvGrpSpPr/>
          <p:nvPr/>
        </p:nvGrpSpPr>
        <p:grpSpPr>
          <a:xfrm>
            <a:off x="324000" y="549360"/>
            <a:ext cx="8531280" cy="980640"/>
            <a:chOff x="324000" y="549360"/>
            <a:chExt cx="8531280" cy="980640"/>
          </a:xfrm>
        </p:grpSpPr>
        <p:sp>
          <p:nvSpPr>
            <p:cNvPr id="198" name="Rectangle 4"/>
            <p:cNvSpPr/>
            <p:nvPr/>
          </p:nvSpPr>
          <p:spPr>
            <a:xfrm>
              <a:off x="825120" y="549360"/>
              <a:ext cx="803016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    </a:t>
              </a:r>
              <a:r>
                <a:rPr b="1" lang="zh-CN" sz="48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你对硫酸的物理性质知道多少？</a:t>
              </a: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99" name="Picture 5" descr="bulb01"/>
            <p:cNvPicPr/>
            <p:nvPr/>
          </p:nvPicPr>
          <p:blipFill>
            <a:blip r:embed="rId1"/>
            <a:stretch/>
          </p:blipFill>
          <p:spPr>
            <a:xfrm>
              <a:off x="324000" y="549360"/>
              <a:ext cx="1066680" cy="97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"/>
          <p:cNvSpPr/>
          <p:nvPr/>
        </p:nvSpPr>
        <p:spPr>
          <a:xfrm>
            <a:off x="1770840" y="2349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浓硫酸在稀释时应注意什么问题？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68360" y="32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应将浓硫酸沿烧杯壁向水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慢慢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注入，并用玻璃棒不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搅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488640" y="4221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？</a:t>
            </a:r>
            <a:endParaRPr b="1" lang="en-US" sz="12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324000" y="692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仪器连接如下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539640" y="1341360"/>
            <a:ext cx="7488360" cy="3213000"/>
            <a:chOff x="539640" y="1341360"/>
            <a:chExt cx="7488360" cy="3213000"/>
          </a:xfrm>
        </p:grpSpPr>
        <p:pic>
          <p:nvPicPr>
            <p:cNvPr id="500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748836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Line 5"/>
            <p:cNvSpPr/>
            <p:nvPr/>
          </p:nvSpPr>
          <p:spPr>
            <a:xfrm>
              <a:off x="7308720" y="3068640"/>
              <a:ext cx="432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02" name="Text Box 6"/>
          <p:cNvSpPr/>
          <p:nvPr/>
        </p:nvSpPr>
        <p:spPr>
          <a:xfrm>
            <a:off x="322200" y="4579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应首先用无水硫酸铜验证水，然后用品红验证二氧化硫，再用高锰酸钾氧化多余的二氧化硫，接着再次验证二氧化硫是否全部被氧化，最后才验证二氧化碳。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981080" y="152280"/>
            <a:ext cx="5402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验证碳和浓硫酸反应的产物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作   业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2583000"/>
            <a:ext cx="842508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课本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103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习题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228600" y="2131920"/>
            <a:ext cx="9524880" cy="1108080"/>
            <a:chOff x="228600" y="2131920"/>
            <a:chExt cx="9524880" cy="1108080"/>
          </a:xfrm>
        </p:grpSpPr>
        <p:sp>
          <p:nvSpPr>
            <p:cNvPr id="507" name="Text Box 5"/>
            <p:cNvSpPr/>
            <p:nvPr/>
          </p:nvSpPr>
          <p:spPr>
            <a:xfrm>
              <a:off x="4114800" y="21319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∆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Text Box 6"/>
            <p:cNvSpPr/>
            <p:nvPr/>
          </p:nvSpPr>
          <p:spPr>
            <a:xfrm>
              <a:off x="228600" y="2452680"/>
              <a:ext cx="9524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Cu + 2H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SO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zh-CN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（浓）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= CuSO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+ SO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  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+2H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O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09" name="Line 7"/>
          <p:cNvSpPr/>
          <p:nvPr/>
        </p:nvSpPr>
        <p:spPr>
          <a:xfrm flipV="1">
            <a:off x="8847000" y="2438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382320" y="21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179800" y="21477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+6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6526440" y="21477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+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4572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+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4" name="Group 12"/>
          <p:cNvGrpSpPr/>
          <p:nvPr/>
        </p:nvGrpSpPr>
        <p:grpSpPr>
          <a:xfrm>
            <a:off x="533520" y="1919160"/>
            <a:ext cx="4419000" cy="318960"/>
            <a:chOff x="533520" y="1919160"/>
            <a:chExt cx="4419000" cy="318960"/>
          </a:xfrm>
        </p:grpSpPr>
        <p:sp>
          <p:nvSpPr>
            <p:cNvPr id="515" name="Line 13"/>
            <p:cNvSpPr/>
            <p:nvPr/>
          </p:nvSpPr>
          <p:spPr>
            <a:xfrm>
              <a:off x="533520" y="1919160"/>
              <a:ext cx="4419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Line 14"/>
            <p:cNvSpPr/>
            <p:nvPr/>
          </p:nvSpPr>
          <p:spPr>
            <a:xfrm>
              <a:off x="533520" y="1919160"/>
              <a:ext cx="0" cy="31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Line 15"/>
            <p:cNvSpPr/>
            <p:nvPr/>
          </p:nvSpPr>
          <p:spPr>
            <a:xfrm>
              <a:off x="4952520" y="1919160"/>
              <a:ext cx="0" cy="31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18" name="Group 16"/>
          <p:cNvGrpSpPr/>
          <p:nvPr/>
        </p:nvGrpSpPr>
        <p:grpSpPr>
          <a:xfrm>
            <a:off x="2514600" y="2986200"/>
            <a:ext cx="4190760" cy="304560"/>
            <a:chOff x="2514600" y="2986200"/>
            <a:chExt cx="4190760" cy="304560"/>
          </a:xfrm>
        </p:grpSpPr>
        <p:sp>
          <p:nvSpPr>
            <p:cNvPr id="519" name="Line 17"/>
            <p:cNvSpPr/>
            <p:nvPr/>
          </p:nvSpPr>
          <p:spPr>
            <a:xfrm>
              <a:off x="2514600" y="3047040"/>
              <a:ext cx="0" cy="243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Line 18"/>
            <p:cNvSpPr/>
            <p:nvPr/>
          </p:nvSpPr>
          <p:spPr>
            <a:xfrm>
              <a:off x="2514600" y="3290760"/>
              <a:ext cx="4190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Line 19"/>
            <p:cNvSpPr/>
            <p:nvPr/>
          </p:nvSpPr>
          <p:spPr>
            <a:xfrm flipV="1">
              <a:off x="6705360" y="2986200"/>
              <a:ext cx="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1732680" y="1295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化合价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升高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561480" y="3352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化合价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降低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4" name="Group 25"/>
          <p:cNvGrpSpPr/>
          <p:nvPr/>
        </p:nvGrpSpPr>
        <p:grpSpPr>
          <a:xfrm>
            <a:off x="0" y="3092400"/>
            <a:ext cx="2133720" cy="1480680"/>
            <a:chOff x="0" y="3092400"/>
            <a:chExt cx="2133720" cy="1480680"/>
          </a:xfrm>
        </p:grpSpPr>
        <p:sp>
          <p:nvSpPr>
            <p:cNvPr id="525" name="Line 26"/>
            <p:cNvSpPr/>
            <p:nvPr/>
          </p:nvSpPr>
          <p:spPr>
            <a:xfrm flipV="1">
              <a:off x="762120" y="3092400"/>
              <a:ext cx="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Text Box 27"/>
            <p:cNvSpPr/>
            <p:nvPr/>
          </p:nvSpPr>
          <p:spPr>
            <a:xfrm>
              <a:off x="0" y="393048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还原剂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7" name="Group 28"/>
          <p:cNvGrpSpPr/>
          <p:nvPr/>
        </p:nvGrpSpPr>
        <p:grpSpPr>
          <a:xfrm>
            <a:off x="1600200" y="3092400"/>
            <a:ext cx="2133360" cy="1480680"/>
            <a:chOff x="1600200" y="3092400"/>
            <a:chExt cx="2133360" cy="1480680"/>
          </a:xfrm>
        </p:grpSpPr>
        <p:sp>
          <p:nvSpPr>
            <p:cNvPr id="528" name="Line 29"/>
            <p:cNvSpPr/>
            <p:nvPr/>
          </p:nvSpPr>
          <p:spPr>
            <a:xfrm flipV="1">
              <a:off x="2361960" y="3092400"/>
              <a:ext cx="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1600200" y="393048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氧化剂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30" name="Rectangle 34"/>
          <p:cNvSpPr/>
          <p:nvPr/>
        </p:nvSpPr>
        <p:spPr>
          <a:xfrm>
            <a:off x="372276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电子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Rectangle 35"/>
          <p:cNvSpPr/>
          <p:nvPr/>
        </p:nvSpPr>
        <p:spPr>
          <a:xfrm>
            <a:off x="5551560" y="335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电子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808560" y="5262480"/>
            <a:ext cx="7041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+2NaCl ==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2HCl↑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3960720" y="504360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强热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7320" y="2282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、浓硫酸的物理性质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1272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色态：无色、粘稠的油状液体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沸点：约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38℃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难挥发酸（高沸点酸）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密度：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84g/c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密度大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溶解性：跟水任意比互溶，溶解放出大量热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特点：沸点高、密度大、放热多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835280" y="3213000"/>
            <a:ext cx="590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4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=   2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+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+  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4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2-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304920" y="1403280"/>
            <a:ext cx="8610480" cy="1218960"/>
            <a:chOff x="304920" y="1403280"/>
            <a:chExt cx="8610480" cy="1218960"/>
          </a:xfrm>
        </p:grpSpPr>
        <p:sp>
          <p:nvSpPr>
            <p:cNvPr id="207" name="Rectangle 7"/>
            <p:cNvSpPr/>
            <p:nvPr/>
          </p:nvSpPr>
          <p:spPr>
            <a:xfrm>
              <a:off x="304920" y="1403280"/>
              <a:ext cx="8610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硫酸、硝酸、盐酸都是酸</a:t>
              </a:r>
              <a:r>
                <a:rPr b="1" lang="en-US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,</a:t>
              </a:r>
              <a:r>
                <a:rPr b="1" lang="zh-CN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电离方程式为：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08" name="Picture 8" descr="nfpa"/>
            <p:cNvPicPr/>
            <p:nvPr/>
          </p:nvPicPr>
          <p:blipFill>
            <a:blip r:embed="rId1"/>
            <a:stretch/>
          </p:blipFill>
          <p:spPr>
            <a:xfrm>
              <a:off x="304920" y="1631880"/>
              <a:ext cx="2746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Rectangle 12"/>
          <p:cNvSpPr/>
          <p:nvPr/>
        </p:nvSpPr>
        <p:spPr>
          <a:xfrm>
            <a:off x="1835280" y="4221000"/>
            <a:ext cx="590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H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3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=  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+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+  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-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835280" y="5229360"/>
            <a:ext cx="590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H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=  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+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+  Cl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隶书"/>
              </a:rPr>
              <a:t>-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0" y="2565360"/>
            <a:ext cx="9196560" cy="3270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1295280" y="907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具有酸的通性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0440" y="20606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使指示剂变色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4365720"/>
            <a:ext cx="43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碱发生中和反应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24000" y="3500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碱性氧化物反应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07800" y="494172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盐反应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13200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使紫色石蕊试液变红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924360" y="4292640"/>
            <a:ext cx="541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32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+ OH </a:t>
            </a:r>
            <a:r>
              <a:rPr b="1" lang="en-US" sz="4000" spc="-1" strike="noStrike" baseline="32000">
                <a:solidFill>
                  <a:srgbClr val="ffff00"/>
                </a:solidFill>
                <a:latin typeface="Times New Roman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=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733920" y="3500280"/>
            <a:ext cx="5410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32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+ CuO = Cu</a:t>
            </a:r>
            <a:r>
              <a:rPr b="1" lang="en-US" sz="3200" spc="-1" strike="noStrike" baseline="32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+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076480" y="4941720"/>
            <a:ext cx="5448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+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3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=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O +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6372360" y="52038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564000" y="4842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具有酸的通性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95280" y="278136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活泼金属反应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348000" y="2781360"/>
            <a:ext cx="46087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+ Zn =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+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Z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V="1">
            <a:off x="5940360" y="29242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99880" y="228600"/>
            <a:ext cx="693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二、化学性质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2411280" y="366840"/>
            <a:ext cx="4247640" cy="685800"/>
            <a:chOff x="2411280" y="366840"/>
            <a:chExt cx="4247640" cy="685800"/>
          </a:xfrm>
        </p:grpSpPr>
        <p:sp>
          <p:nvSpPr>
            <p:cNvPr id="229" name="Rectangle 4"/>
            <p:cNvSpPr/>
            <p:nvPr/>
          </p:nvSpPr>
          <p:spPr>
            <a:xfrm>
              <a:off x="2660760" y="366840"/>
              <a:ext cx="3998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ff"/>
                  </a:solidFill>
                  <a:latin typeface="华文新魏"/>
                  <a:ea typeface="华文新魏"/>
                </a:rPr>
                <a:t>    </a:t>
              </a:r>
              <a:r>
                <a:rPr b="1" lang="zh-CN" sz="4400" spc="-1" strike="noStrike">
                  <a:solidFill>
                    <a:srgbClr val="ff00ff"/>
                  </a:solidFill>
                  <a:latin typeface="华文新魏"/>
                  <a:ea typeface="华文新魏"/>
                </a:rPr>
                <a:t>思考与交流</a:t>
              </a:r>
              <a:endParaRPr b="1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30" name="Picture 5" descr="bulb01"/>
            <p:cNvPicPr/>
            <p:nvPr/>
          </p:nvPicPr>
          <p:blipFill>
            <a:blip r:embed="rId1"/>
            <a:stretch/>
          </p:blipFill>
          <p:spPr>
            <a:xfrm>
              <a:off x="2411280" y="366840"/>
              <a:ext cx="5310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2"/>
          <p:cNvGrpSpPr/>
          <p:nvPr/>
        </p:nvGrpSpPr>
        <p:grpSpPr>
          <a:xfrm>
            <a:off x="71280" y="1557360"/>
            <a:ext cx="8964360" cy="1218960"/>
            <a:chOff x="71280" y="1557360"/>
            <a:chExt cx="8964360" cy="1218960"/>
          </a:xfrm>
        </p:grpSpPr>
        <p:sp>
          <p:nvSpPr>
            <p:cNvPr id="232" name="Rectangle 13"/>
            <p:cNvSpPr/>
            <p:nvPr/>
          </p:nvSpPr>
          <p:spPr>
            <a:xfrm>
              <a:off x="71280" y="1557360"/>
              <a:ext cx="89643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宋体"/>
                  <a:ea typeface="隶书"/>
                </a:rPr>
                <a:t>实验室里用金属和酸反应制取氢气时，往往用稀硫酸或盐酸，而不用浓硫酸或硝酸，这是为什么？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33" name="Picture 14" descr="nfpa"/>
            <p:cNvPicPr/>
            <p:nvPr/>
          </p:nvPicPr>
          <p:blipFill>
            <a:blip r:embed="rId2"/>
            <a:stretch/>
          </p:blipFill>
          <p:spPr>
            <a:xfrm>
              <a:off x="71280" y="1785960"/>
              <a:ext cx="28584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7"/>
          <p:cNvGrpSpPr/>
          <p:nvPr/>
        </p:nvGrpSpPr>
        <p:grpSpPr>
          <a:xfrm>
            <a:off x="179280" y="4076640"/>
            <a:ext cx="8784360" cy="980640"/>
            <a:chOff x="179280" y="4076640"/>
            <a:chExt cx="8784360" cy="980640"/>
          </a:xfrm>
        </p:grpSpPr>
        <p:sp>
          <p:nvSpPr>
            <p:cNvPr id="235" name="Rectangle 18"/>
            <p:cNvSpPr/>
            <p:nvPr/>
          </p:nvSpPr>
          <p:spPr>
            <a:xfrm>
              <a:off x="695520" y="4076640"/>
              <a:ext cx="826812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浓硫酸有哪些特性呢？</a:t>
              </a:r>
              <a:endParaRPr b="1" lang="en-US" sz="6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36" name="Picture 19" descr="bulb01"/>
            <p:cNvPicPr/>
            <p:nvPr/>
          </p:nvPicPr>
          <p:blipFill>
            <a:blip r:embed="rId3"/>
            <a:stretch/>
          </p:blipFill>
          <p:spPr>
            <a:xfrm>
              <a:off x="179280" y="4076640"/>
              <a:ext cx="1098360" cy="97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3429000" y="1447920"/>
            <a:ext cx="2590920" cy="685800"/>
            <a:chOff x="3429000" y="1447920"/>
            <a:chExt cx="2590920" cy="685800"/>
          </a:xfrm>
        </p:grpSpPr>
        <p:sp>
          <p:nvSpPr>
            <p:cNvPr id="238" name="Rectangle 3"/>
            <p:cNvSpPr/>
            <p:nvPr/>
          </p:nvSpPr>
          <p:spPr>
            <a:xfrm>
              <a:off x="3581280" y="144792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想想看：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39" name="Picture 4" descr="bulb01"/>
            <p:cNvPicPr/>
            <p:nvPr/>
          </p:nvPicPr>
          <p:blipFill>
            <a:blip r:embed="rId1"/>
            <a:stretch/>
          </p:blipFill>
          <p:spPr>
            <a:xfrm>
              <a:off x="3429000" y="1447920"/>
              <a:ext cx="3240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5"/>
          <p:cNvGrpSpPr/>
          <p:nvPr/>
        </p:nvGrpSpPr>
        <p:grpSpPr>
          <a:xfrm>
            <a:off x="457200" y="2209680"/>
            <a:ext cx="7848720" cy="703440"/>
            <a:chOff x="457200" y="2209680"/>
            <a:chExt cx="7848720" cy="703440"/>
          </a:xfrm>
        </p:grpSpPr>
        <p:sp>
          <p:nvSpPr>
            <p:cNvPr id="241" name="Text Box 6"/>
            <p:cNvSpPr/>
            <p:nvPr/>
          </p:nvSpPr>
          <p:spPr>
            <a:xfrm>
              <a:off x="685800" y="220968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浓硫酸为什么可以做干燥剂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?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42" name="Picture 7" descr="nfpa"/>
            <p:cNvPicPr/>
            <p:nvPr/>
          </p:nvPicPr>
          <p:blipFill>
            <a:blip r:embed="rId2"/>
            <a:stretch/>
          </p:blipFill>
          <p:spPr>
            <a:xfrm>
              <a:off x="457200" y="2438280"/>
              <a:ext cx="2746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Text Box 9"/>
          <p:cNvSpPr/>
          <p:nvPr/>
        </p:nvSpPr>
        <p:spPr>
          <a:xfrm>
            <a:off x="2705040" y="37386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吸水性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AutoShape 1044"/>
          <p:cNvSpPr/>
          <p:nvPr/>
        </p:nvSpPr>
        <p:spPr>
          <a:xfrm>
            <a:off x="4010040" y="479736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7301"/>
                </a:moveTo>
                <a:lnTo>
                  <a:pt x="12110" y="7301"/>
                </a:lnTo>
                <a:lnTo>
                  <a:pt x="12493" y="7667"/>
                </a:lnTo>
                <a:lnTo>
                  <a:pt x="21701" y="7667"/>
                </a:lnTo>
                <a:lnTo>
                  <a:pt x="22258" y="8224"/>
                </a:lnTo>
                <a:lnTo>
                  <a:pt x="22258" y="8772"/>
                </a:lnTo>
                <a:lnTo>
                  <a:pt x="24103" y="8772"/>
                </a:lnTo>
                <a:lnTo>
                  <a:pt x="24469" y="8224"/>
                </a:lnTo>
                <a:lnTo>
                  <a:pt x="25209" y="8224"/>
                </a:lnTo>
                <a:lnTo>
                  <a:pt x="25209" y="13376"/>
                </a:lnTo>
                <a:lnTo>
                  <a:pt x="24469" y="13376"/>
                </a:lnTo>
                <a:lnTo>
                  <a:pt x="24103" y="12828"/>
                </a:lnTo>
                <a:lnTo>
                  <a:pt x="22258" y="12828"/>
                </a:lnTo>
                <a:lnTo>
                  <a:pt x="22258" y="14107"/>
                </a:lnTo>
                <a:lnTo>
                  <a:pt x="12675" y="14107"/>
                </a:lnTo>
                <a:lnTo>
                  <a:pt x="12675" y="9877"/>
                </a:lnTo>
                <a:lnTo>
                  <a:pt x="12493" y="9877"/>
                </a:lnTo>
                <a:lnTo>
                  <a:pt x="12110" y="10243"/>
                </a:lnTo>
                <a:lnTo>
                  <a:pt x="11196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07:54:40Z</dcterms:created>
  <dc:creator>金谷</dc:creator>
  <dc:description/>
  <dc:language>en-US</dc:language>
  <cp:lastModifiedBy>WHZ</cp:lastModifiedBy>
  <dcterms:modified xsi:type="dcterms:W3CDTF">2016-12-27T15:25:36Z</dcterms:modified>
  <cp:revision>130</cp:revision>
  <dc:subject/>
  <dc:title>PowerPoint 演示文稿</dc:title>
</cp:coreProperties>
</file>