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FC5-FE1D-4EAF-9A64-9ADA9BF2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B04-17F6-432B-8B52-66AD7D2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CF7-E114-4781-8E4B-03B494D5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3F1-F4A3-4E9B-8B67-E116C79F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184-BE7B-4A89-9831-2C57731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3C9-4652-4638-8A39-227EB11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A68-8004-4942-A7C3-72208ED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269-23F6-4120-AF8A-02CAD2D9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958-13CA-42D1-9F0E-1D6308A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2E1-4401-4461-BB6C-F9E2E0D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4CC-BE28-45AE-9541-D938C15D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60F-4973-4838-B7D4-AFC7226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CF8-33D5-4751-92F8-0D3CC27A8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314280"/>
            <a:ext cx="6781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 市 的 标 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国语学校小学部  王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19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按一定的顺序描写家乡的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完成字词积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752480"/>
            <a:ext cx="7925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此相像      似曾相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同小异      一模一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遒劲伸展      宽大茂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婀娜苗条      挺拔苍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玲珑精致      秀气坚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6880" y="1294920"/>
            <a:ext cx="6019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此相像   似曾相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同小异  一模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90440" y="-71280"/>
            <a:ext cx="9524880" cy="700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1316160"/>
            <a:ext cx="557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此相像   似曾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同小异   一模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08040" y="21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438280"/>
            <a:ext cx="665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遒劲伸展      宽大茂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婀娜苗条      挺拔苍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玲珑精致      秀气坚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24836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6094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张抗抗：当代著名女作家，生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，作品多次在国内获得文学创作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001000" y="5867280"/>
            <a:ext cx="685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1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295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棵树有一种端庄的王者风度，两人合抱粗的树干呈深黑色，树枝如巨大的龙爪，遒劲而伸展，缀满了繁密的树叶，即使在深冬也依然葱郁。树底下落着紫黑色的小果子，一阵若有若无的香气淡淡地袭来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458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691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棵树有一种端庄的王者风度，两人合抱粗的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树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呈深黑色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树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巨大的龙爪，遒劲而伸展，缀满了繁密的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树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即使在深冬也依然葱郁。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树底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着紫黑色的小果子，一阵若有若无的香气淡淡地袭来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棵树有一种（                ）风度，（　　　）树干呈（　　）（              ），树枝如巨大的龙爪，（           ）而（            ），缀满了（　　　　　　），即使在深冬也（　　　）。树底下落着（　　），一阵（　　）淡淡地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7160" y="2259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3-05T07:53:2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