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9BB8-172D-4BCF-82D0-080F92E9A1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866-1B1B-4D41-A346-B7184251EA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427-489A-4B96-9D45-035424EA7B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DE20-4B49-4D20-A541-1D9F88D391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3330-E47E-4A09-885A-918D0AF126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60BA-36EF-48EA-9421-F1CE0D7BD5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1ACD-499C-47B8-BCDE-F502B1FA36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B6B5-8C31-4E0D-A7D1-A5D44C62F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EFC5-9647-44F9-A78E-78BF84CF23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D277-ABC1-41D1-8B03-06EE0ED4A2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AD7E-E7C9-446E-BE19-F9695AA38A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5A14-B01A-44EA-B3A9-D417454036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FA02-E205-4BC8-9148-45549FA60C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771B-58A6-4404-8066-43A8E1D91F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AAE1-D9E1-483C-ADBE-0144EF752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5"/>
          <a:stretch/>
        </p:blipFill>
        <p:spPr>
          <a:xfrm>
            <a:off x="0" y="2565360"/>
            <a:ext cx="9144000" cy="257832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0" y="0"/>
            <a:ext cx="9145440" cy="257184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0" y="1123920"/>
            <a:ext cx="914400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费收费方式</a:t>
            </a:r>
            <a:r>
              <a:rPr b="1" lang="en-US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-</a:t>
            </a: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生校园支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8"/>
          <p:cNvSpPr/>
          <p:nvPr/>
        </p:nvSpPr>
        <p:spPr>
          <a:xfrm>
            <a:off x="2963880" y="4146480"/>
            <a:ext cx="3216240" cy="36036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ldNum" idx="1"/>
          </p:nvPr>
        </p:nvSpPr>
        <p:spPr>
          <a:xfrm>
            <a:off x="4098960" y="4911480"/>
            <a:ext cx="9828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730D-9F31-494D-B8BD-DFBCA821F2C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-1440" y="2565360"/>
            <a:ext cx="9144000" cy="2578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2"/>
          <p:cNvSpPr/>
          <p:nvPr/>
        </p:nvSpPr>
        <p:spPr>
          <a:xfrm>
            <a:off x="-1440" y="0"/>
            <a:ext cx="9146880" cy="257184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-6480" y="915840"/>
            <a:ext cx="914400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费收费方式</a:t>
            </a:r>
            <a:r>
              <a:rPr b="1" lang="en-US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—</a:t>
            </a: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生校园支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4"/>
          <p:cNvSpPr/>
          <p:nvPr/>
        </p:nvSpPr>
        <p:spPr>
          <a:xfrm>
            <a:off x="2963880" y="4146480"/>
            <a:ext cx="3216240" cy="36036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1173240" y="709560"/>
            <a:ext cx="579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一：登录学生平台，点击 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交费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81080" y="1352520"/>
            <a:ext cx="5486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990720" y="92376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二： 查看交费订单，核对交费金额和个人信息（如有错误，请及时与学习中心老师联系），核对无误，点击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付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就会跳转到校园支付页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交费记录可以看到之前交费的交费记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676520" y="1889280"/>
            <a:ext cx="579096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9"/>
          <p:cNvSpPr/>
          <p:nvPr/>
        </p:nvSpPr>
        <p:spPr>
          <a:xfrm>
            <a:off x="1073160" y="86184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三：点击支付后会弹出电子发票接收确认页面，核对手机号和邮箱是否正确，如果错误可以进行修改，无误后勾选“我已确认上述邮箱有效”，点击“继续支付”，再次核对学费金额，点击“校园支付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费工作结束后，学费发票会发送至此邮箱，务必保证是本人常用的无问题的手机号、邮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143000" y="22464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829040" y="2246400"/>
            <a:ext cx="3527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9"/>
          <p:cNvSpPr/>
          <p:nvPr/>
        </p:nvSpPr>
        <p:spPr>
          <a:xfrm>
            <a:off x="1073160" y="86184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四：进入校园支付页面，再次核对金额，选择微信支付或者支付宝，选择好之后点击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支付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提示操作即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600200" y="1886040"/>
            <a:ext cx="546408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357120" y="1071720"/>
            <a:ext cx="8215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微信支付，打开微信扫一扫功能扫码支付，支付成功后点击“支付成功”；如果支付出现失败可以点击“支付失败”，重新选择微信支付进行扫码支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1600200" y="1886040"/>
            <a:ext cx="5334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3"/>
          <p:cNvSpPr/>
          <p:nvPr/>
        </p:nvSpPr>
        <p:spPr>
          <a:xfrm>
            <a:off x="533520" y="1081080"/>
            <a:ext cx="8610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支付宝支付，打开手机支付宝扫一扫功能扫码支付，或网页登录支付宝账户进行支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838080" y="1973160"/>
            <a:ext cx="3276720" cy="242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4495680" y="1973160"/>
            <a:ext cx="3276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4"/>
          <p:cNvSpPr/>
          <p:nvPr/>
        </p:nvSpPr>
        <p:spPr>
          <a:xfrm>
            <a:off x="1066680" y="819000"/>
            <a:ext cx="693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学费发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费发票是电子版，交费结束后学校会统一开具，发送至学生电子邮箱内。电子邮箱、手机号等个人信息如有更改，请及时在平台更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716120" y="1733400"/>
            <a:ext cx="5638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3"/>
          <p:cNvGrpSpPr/>
          <p:nvPr/>
        </p:nvGrpSpPr>
        <p:grpSpPr>
          <a:xfrm>
            <a:off x="1647720" y="1047600"/>
            <a:ext cx="6201000" cy="3618000"/>
            <a:chOff x="1647720" y="1047600"/>
            <a:chExt cx="6201000" cy="3618000"/>
          </a:xfrm>
        </p:grpSpPr>
        <p:pic>
          <p:nvPicPr>
            <p:cNvPr id="152" name="Picture 4" descr=""/>
            <p:cNvPicPr/>
            <p:nvPr/>
          </p:nvPicPr>
          <p:blipFill>
            <a:blip r:embed="rId1"/>
            <a:stretch/>
          </p:blipFill>
          <p:spPr>
            <a:xfrm>
              <a:off x="1647720" y="1047600"/>
              <a:ext cx="6201000" cy="36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2"/>
            <p:cNvSpPr/>
            <p:nvPr/>
          </p:nvSpPr>
          <p:spPr>
            <a:xfrm>
              <a:off x="4924080" y="1477440"/>
              <a:ext cx="167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zhangyong</cp:lastModifiedBy>
  <dcterms:modified xsi:type="dcterms:W3CDTF">2024-02-26T01:19:54Z</dcterms:modified>
  <cp:revision>624</cp:revision>
  <dc:subject/>
  <dc:title>PowerPoint Template</dc:title>
</cp:coreProperties>
</file>